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FDFB-51F7-42C6-A656-4489CE32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291E-A60E-4D4A-B1A4-87846FBB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2DDA-7ABE-4E26-B85B-4AD7CB7E9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F642-2CBC-420A-A929-D23D8159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6D2E-760E-4E5A-B874-5A2F226F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AAC7-A61A-44F0-B21D-C0F21DA9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F46A-4C1E-4F3E-9025-D3480E7A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98AA-C28B-4557-9ECA-C61F35A5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B810-4D3A-403B-919D-DE65DC19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40D7-5D69-40A4-A475-9BD1F5C1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473C-2B0E-4855-ABFB-8E7F5F45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506B-4CF9-4E9F-A22B-626F31B2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14DD-FB16-4313-8AB2-51444D68605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9240" y="1609560"/>
            <a:ext cx="2523960" cy="8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7680" y="1560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FJ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9240" y="1800360"/>
            <a:ext cx="25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2502000" cy="46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680" y="1066680"/>
            <a:ext cx="250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9440" y="85572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F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384200" y="1358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21000" y="1752480"/>
            <a:ext cx="2460600" cy="107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76520" y="1722600"/>
            <a:ext cx="7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FJ4B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21000" y="1962000"/>
            <a:ext cx="249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49800" y="1076400"/>
            <a:ext cx="1066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68520" y="1228680"/>
            <a:ext cx="10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11000" y="101772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FEventB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807000" y="1533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55840" y="2013120"/>
            <a:ext cx="253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jArray  f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jArray *GetComponent(Char_t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jArray *AddComponent(Char_t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0040" y="1789200"/>
            <a:ext cx="256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FJ4RunManager *GetRunManager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5280" y="1027080"/>
            <a:ext cx="174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FEventBuf *fEventB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30600" y="1149480"/>
            <a:ext cx="60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36720" y="1098720"/>
            <a:ext cx="120960" cy="101520"/>
          </a:xfrm>
          <a:prstGeom prst="flowChartDecis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53280" y="2085840"/>
            <a:ext cx="2065320" cy="10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08800" y="205596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FJ4Buf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53280" y="2295360"/>
            <a:ext cx="20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81720" y="1409760"/>
            <a:ext cx="1066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0800" y="1562040"/>
            <a:ext cx="104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45440" y="13510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6838920" y="1866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88480" y="2346480"/>
            <a:ext cx="2111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jArray  *fObjAr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_t*      GetName (Char_t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jArray *GetObjArray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69000" y="2168640"/>
            <a:ext cx="60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75480" y="2117880"/>
            <a:ext cx="120600" cy="101520"/>
          </a:xfrm>
          <a:prstGeom prst="flowChartDecis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7732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68680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0" y="32767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4191120"/>
            <a:ext cx="22100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3200" y="411480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4PrimaryVe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1520" y="4354560"/>
            <a:ext cx="221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160" y="4343400"/>
            <a:ext cx="2199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_t  fSerialN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_t  fT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_t  fWeigh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Vector3  fPositio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jArray  *fParticle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4PrimaryVertex  *fNextVertex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3429000"/>
            <a:ext cx="1066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33480" y="3581280"/>
            <a:ext cx="104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78120" y="337032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387440" y="385776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276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5160" y="3922560"/>
            <a:ext cx="117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imaryVert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4191120"/>
            <a:ext cx="288936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16760" y="4114800"/>
            <a:ext cx="12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4PrimaryParti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4720" y="4354560"/>
            <a:ext cx="289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36320" y="4429080"/>
            <a:ext cx="28612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_t  fTrackI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_t  fParticleI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_t  fCharg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_t  fMas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Vector3  fMomentu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Vector3  fPolarizatio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jArray  *fDaugh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GGeneratorParticle   *fGeneratorPartic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4PrimaryVertex  *fVertex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819520" y="4266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4267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3467160"/>
            <a:ext cx="1067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28960" y="3619440"/>
            <a:ext cx="10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73600" y="34084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343400" y="3885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46960" y="4162320"/>
            <a:ext cx="1587240" cy="20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38560" y="4086360"/>
            <a:ext cx="11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4VTXExactH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37240" y="4325760"/>
            <a:ext cx="159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4520" y="4400640"/>
            <a:ext cx="1643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_t  fTrackI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_t  fParticleI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_t  fLayerI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_t  fLaderI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Vector3  fMomentu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Vector3  fInPositio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43880" y="3438360"/>
            <a:ext cx="1066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62600" y="3591000"/>
            <a:ext cx="10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67720" y="338940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7296120" y="3885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3276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1880" y="3276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216640" y="4303800"/>
            <a:ext cx="78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H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29600" y="4267080"/>
            <a:ext cx="733320" cy="55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89280" y="190440"/>
            <a:ext cx="32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SFJ4 and S4xxxExactHit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2080" y="3932280"/>
            <a:ext cx="74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VTXH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yamoto</cp:lastModifiedBy>
  <dcterms:modified xsi:type="dcterms:W3CDTF">2004-08-01T06:40:32Z</dcterms:modified>
  <cp:revision>5</cp:revision>
  <dc:subject/>
  <dc:title>PowerPoint Presentation</dc:title>
</cp:coreProperties>
</file>