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726-918A-4522-B0FE-D0853E24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1C3-D972-4F97-B714-87F7CBF2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DAB-3626-4608-B345-89FDCAC7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938-7757-4353-8B9F-1A432860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A09-F437-483E-BA00-D716BB06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E74-7607-41AC-91E0-2B72DC8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E34-9392-4B7A-B742-FC781062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5FF-85C8-4A1A-97F5-AAB4D6BC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210-ADD3-4745-81DA-A2EDAD0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2B5-BAB9-48CE-94F3-E2AB5C5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1F4-29E0-47BD-9B16-7EE540F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B7D-AC36-41DD-B902-FFC4562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9DBC-442C-4F95-8F08-AC70E044BF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240" y="1609560"/>
            <a:ext cx="2523960" cy="8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1560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40" y="1800360"/>
            <a:ext cx="25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25020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1066680"/>
            <a:ext cx="250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440" y="85572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84200" y="135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21000" y="1752480"/>
            <a:ext cx="2460600" cy="107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76520" y="17226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1000" y="1962000"/>
            <a:ext cx="24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9800" y="10764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68520" y="122868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1000" y="10177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Event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7000" y="153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5840" y="2013120"/>
            <a:ext cx="253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f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GetComponent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AddComponent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040" y="1789200"/>
            <a:ext cx="25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RunManager *GetRunManag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5280" y="102708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EventBuf *fEvent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0600" y="1149480"/>
            <a:ext cx="60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6720" y="1098720"/>
            <a:ext cx="120960" cy="10152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3280" y="2085840"/>
            <a:ext cx="2065320" cy="10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08800" y="20559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Buf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53280" y="22953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81720" y="140976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56204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440" y="13510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38920" y="186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8480" y="2346480"/>
            <a:ext cx="211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Obj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_t*      GetName 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GetObjArra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9000" y="216864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75480" y="2117880"/>
            <a:ext cx="120600" cy="10152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0" y="3276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191120"/>
            <a:ext cx="2210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3200" y="411480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520" y="43545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160" y="4343400"/>
            <a:ext cx="2199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SerialN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_t  f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_t  fWe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Posi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Particl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  *fNextVerte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290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3480" y="358128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8120" y="3370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87440" y="38577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5160" y="3922560"/>
            <a:ext cx="117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imaryVert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4191120"/>
            <a:ext cx="2889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6760" y="411480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Part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4720" y="4354560"/>
            <a:ext cx="289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6320" y="4429080"/>
            <a:ext cx="2861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Track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Particle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_t  fChar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_t  fMa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Momentu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Polariz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Daugh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GGeneratorParticle   *fGeneratorPartic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  *fVerte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426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46716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361944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73600" y="3408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46960" y="4162320"/>
            <a:ext cx="1587240" cy="20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38560" y="4086360"/>
            <a:ext cx="11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VTXExactH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7240" y="432576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4520" y="4400640"/>
            <a:ext cx="164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Track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Particle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_t  fLaye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_t  fLade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Momentu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InPosi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43880" y="343836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2600" y="359100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7720" y="33894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29612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16640" y="43038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4267080"/>
            <a:ext cx="733320" cy="5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89280" y="19044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FJ4 and S4xxxExactHit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2080" y="39322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VTX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yamoto</cp:lastModifiedBy>
  <dcterms:modified xsi:type="dcterms:W3CDTF">2004-08-01T06:40:32Z</dcterms:modified>
  <cp:revision>5</cp:revision>
  <dc:subject/>
  <dc:title>PowerPoint Presentation</dc:title>
</cp:coreProperties>
</file>