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7937500" cy="11422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938000" cy="114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44160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marL="216000"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497480" y="0"/>
            <a:ext cx="344016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lstStyle>
            <a:lvl1pPr marL="216000"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879120" y="855360"/>
            <a:ext cx="6186600" cy="42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10848960"/>
            <a:ext cx="3441600" cy="5731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b">
            <a:noAutofit/>
          </a:bodyPr>
          <a:lstStyle>
            <a:lvl1pPr marL="216000"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497480" y="10848960"/>
            <a:ext cx="3440160" cy="5731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b">
            <a:noAutofit/>
          </a:bodyPr>
          <a:lstStyle>
            <a:lvl1pPr marL="216000"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2F5823A0-972B-4D82-BA19-9286B9FC68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alk about “Beam background study for GL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f all, I should mention that my talk based on the studies at GLC vertex group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background in this talk means a background for the vertex dete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 example of event display for the incoherent ee pair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it Densities are calculated by counting the hit in active layer of 30micron thickness.(Not a pixel h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table shows value of hit densities at the 1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layer for different crossing angles and detector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changing detector field from 3 to 4 tesla, the hit density is suppressed effectively, and become about a half of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crossing angle, there is no significant dependency has been observ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ight figure shows a track energy which hits the 1</a:t>
            </a:r>
            <a:r>
              <a:rPr b="0" lang="ja-JP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layer, and hit densities for each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it density of 1 st layer is very high and hit density at the other layers are not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first layer, one year operation gives 1.5x10+11/cm2/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igure shows hit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layer, the ladder dependence and Z depe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vertex detector, three types of backgrounds should be taken into ac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are, Synchrotron radiation, beam-beam interaction as accelerator incidenta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low-mass two-photon interaction events as a physics incident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rocesses produce charged particles, directly or indirect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erious influence of the background to the CCD based VTX detecto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rease of charge transfer inefficiency due to Non-Ionizing Energy los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the charged particles, and depends on the energy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 of my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studied the influence of incoherent e+e- pair production using CAIN MC gener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AIN MC generator includes these processes, and predict final angular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computing electric field of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nal state momentum will change according to the beam para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, also the background situation will change depending on the interaction region designs and detector magnetic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, we estimated the hit density on the VTX detector for some of set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t first , we show you the property of e+e- pair production in the generator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t the beam crossing, produced incoherent e+e- paris are scattered to some way by the electrical field of another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ince the beam is extremely focused in vertical direction, the opposite charged particles are scattered at larger angles especially vertical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gure shows a scattered angle of electrons and positrons produced by the incoherent e+e- pair production for the electron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You can see that positrons scattered larger angles in the vertical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electrons and positrons are boosted to a beam direction. It will  depends on the angle of crab cros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compared for several crossing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figure shows the 2D-plot of the transverse momentum versus cosine angle of produced e+e- pair for 20mrad crossing angle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gure shows, if we assume that the detector coverage of cosine angle is less than 0.96, and the minimum transverse momentum of about 7MeV, we have still tail of the e+e- pair backgr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ight figure shows the cos theta and Pt of e+e- pair for various crossing angles. The crossing angle gives a transverse momentum to the main beam, so that the Pt distribution of produced e+e- pair also has more Pt as larger crossing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=0.3B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=3T/r=24mm/2   :  P=10.8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=3T/r=15mm/2   :  P=6.75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=4T/r=15mm/2   :  P=9.0 M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vertex detector will be affected by the background condition in which the vertex detector is really inst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, I applied  cosine angle cut to the CAIN data, and countered number of tra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gure shows the Pt distribution after applying the cosine angle cut of less than 0.96 for different crossing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the both acceptance cut of Pt and cos theta were applied, the number of particles per a bunch becomes like right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not seen a significant dependency of crossing angle, however, actual hit on VTX detector involves effect of geometrical effects, curling tra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econdary particles produced in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into account such effects, we have performed a full detector simulator connected to CAIN gener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tudy items, we tried detector field dependences, and crossing angle depe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design of interaction region, the L* is chosen to 3.5m with Super Q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esign around QCS is different for small crossing and large cros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 schematic view of the detector installed in JUPITER detector simu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am pipe is a radius of 11mm and 10cm half length beryllium connecting to 73mm radius Aluminum p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are WSiCal filled with Tungsten, and these are also tungsten m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design around QCS are changed according to the crossing angle due to space limi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mall angle, wide inner radius QCS is assumed, which inner and outer radii are 8 cm and 16,5 cm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large angle, compact QCS is assumed, which inner and outer radii are 1cm and 5.5cm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mall angle case, the extracted beam is also passing inside QCS, while in the larger angle cas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xtracted line separated from Q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front of QCS, low Z material is attached as an XXXXX M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OL give a uniform detector field in dZ &lt; 340 c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TX detector is consists of 5 layers which inner most radius of 15 cm, and radius of outer most layer is 63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hickness of sensor is 100um in which active layer is 30um. We counter the number of hits in the 30um active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79480" y="855720"/>
            <a:ext cx="6186600" cy="4282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93440" y="5425920"/>
            <a:ext cx="6351480" cy="51422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example of event display for the disrupted beam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757F-9000-492A-A557-F58B0819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FADF-9584-4AC1-BC6D-06888F1A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2E88-8D13-4B88-8A73-107ABAE7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7B95-0F81-4D80-9334-C6C0B092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E813-E874-4BE2-AB5E-8861B15F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0977-2D4A-4347-AB68-9E575CA7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16B8-2636-4135-A4FA-31637D6E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F00A-50EF-4C49-AF26-5199E86B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E7AF-BED1-4C39-9BB1-FDCB34F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6DBC-7502-4C88-BA67-505A780C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1158-5E27-4ACE-B64B-A5548AE8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BE8B-BB5C-4983-86A0-9FF87A9A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35D0-A9A3-41F1-99AF-DA6F24F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837E-E337-4CDA-9C4F-EF14907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31A2-5546-415D-9CAA-FCC78B8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6B38-E77C-43CC-8AA4-8C944A61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9FE5-B436-4AC1-B3DA-939E8478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FC6A-6AB2-4FDC-A653-7A1C7205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E716-7668-44B2-8D1F-B775208F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27D49-527D-4BEA-A945-230C6115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BC83-4D56-4688-9932-3F9B40BE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0571-91B2-43DA-AFC5-A8D7F7CA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EA02-25E7-4F65-80AD-9A8D2897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8F9C-97CD-4475-A1AF-48198E6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F296-4425-42C0-B595-40040EA9D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7360" y="274680"/>
              <a:ext cx="1476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7360" y="409680"/>
              <a:ext cx="1476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0640" y="3583080"/>
                <a:ext cx="6242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58680" y="1690560"/>
                <a:ext cx="6220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58680" y="2324160"/>
                <a:ext cx="6220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20640" y="2948040"/>
                <a:ext cx="62424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132C-3489-4416-98F6-D3FD58FD0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34920" y="2781000"/>
            <a:ext cx="780084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m background study for GL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22280" y="4724280"/>
            <a:ext cx="85838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sukasa Aso, Toyama College of Maritime Technology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d   GLC Vertex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.Aihara, K.Tanabe, Tokyo Un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d BD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4880" y="3573360"/>
            <a:ext cx="54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Based on the studies at GLC Vertex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includes contribution from BD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6CC6-57F1-4A82-9984-3B5F7E4C43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9400" y="188640"/>
            <a:ext cx="8915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Event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906120" cy="3325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866600" y="126828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20mrad  </a:t>
            </a:r>
            <a:r>
              <a:rPr b="1" lang="ja-JP" sz="2400" spc="-1" strike="noStrike">
                <a:solidFill>
                  <a:srgbClr val="000000"/>
                </a:solidFill>
                <a:latin typeface="Verdana"/>
              </a:rPr>
              <a:t>incoherent ee-pair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7460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C679-42FB-4A8E-B56B-55FD5FC960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9400" y="189000"/>
            <a:ext cx="8915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 density at V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51000" y="1989000"/>
          <a:ext cx="4224240" cy="2476800"/>
        </p:xfrm>
        <a:graphic>
          <a:graphicData uri="http://schemas.openxmlformats.org/drawingml/2006/table">
            <a:tbl>
              <a:tblPr/>
              <a:tblGrid>
                <a:gridCol w="1171440"/>
                <a:gridCol w="931680"/>
                <a:gridCol w="1130400"/>
                <a:gridCol w="9907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X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enoid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ad-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Tes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m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Tes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mr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es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m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Tes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r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es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285840" y="47628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9040" y="765000"/>
            <a:ext cx="29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t densities are giv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 the unit o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/m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/tra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0" y="1628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t density on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440" y="4565520"/>
            <a:ext cx="4105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Changing Solenoid field from 3 to 4 te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can suppress background effe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Estimated value of hit densitie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similar. No significant crossing a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dependency has been ob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Hit density at 1</a:t>
            </a:r>
            <a:r>
              <a:rPr b="0" lang="ja-JP" sz="1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layer is relatively hig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and at outer layer is not a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16560" y="3333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lectrons energy at 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8320" y="335772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 year  operation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5x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/year a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ayer is estim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06760" y="3860640"/>
            <a:ext cx="387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888160" y="620640"/>
            <a:ext cx="3120840" cy="2705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888160" y="4005360"/>
            <a:ext cx="3120840" cy="2671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45120" y="3933720"/>
            <a:ext cx="2906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it densities at 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67560" y="1052640"/>
            <a:ext cx="234468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20mrad/15mm/4Tes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56520" y="4437000"/>
            <a:ext cx="2338200" cy="27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20mrad/15mm/4Tes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080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9400" y="134136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Number of hit, not pix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8056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4892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9324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6304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09160" y="6491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1D97-4AB6-4923-B772-5E10C0B351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9400" y="333000"/>
            <a:ext cx="8915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t pos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0200" y="404640"/>
            <a:ext cx="38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t positions at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Lay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R=15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5760" y="76500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-Y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6560" y="299736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31760" y="5493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79520" y="4797360"/>
            <a:ext cx="404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it density is smaller at the Z edge of detector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cause the main source of electron come from IP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small backscattering contamination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41240" y="1052640"/>
            <a:ext cx="2262240" cy="19875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025000" y="1916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39320" y="175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74440" y="1630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50520" y="1692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31360" y="189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93280" y="207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15760" y="217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20240" y="2104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84280" y="3429000"/>
            <a:ext cx="3666960" cy="3179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186520" y="1125360"/>
            <a:ext cx="4086000" cy="35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4BB4-4599-4ED6-813C-01AADBF51D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9400" y="404280"/>
            <a:ext cx="891540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 of hit (20mr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202440" y="1341360"/>
          <a:ext cx="3627360" cy="1465200"/>
        </p:xfrm>
        <a:graphic>
          <a:graphicData uri="http://schemas.openxmlformats.org/drawingml/2006/table">
            <a:tbl>
              <a:tblPr/>
              <a:tblGrid>
                <a:gridCol w="1143000"/>
                <a:gridCol w="904680"/>
                <a:gridCol w="738360"/>
                <a:gridCol w="841320"/>
              </a:tblGrid>
              <a:tr h="3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-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m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r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Z,Q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6596640" y="-1260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=15mm,4Te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67320" y="90792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ayer hit origin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9600" y="907920"/>
            <a:ext cx="6121080" cy="3832200"/>
            <a:chOff x="39600" y="907920"/>
            <a:chExt cx="6121080" cy="383220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39600" y="907920"/>
              <a:ext cx="6121080" cy="38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228040" y="3139920"/>
              <a:ext cx="14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QCS’s 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05480" y="3284280"/>
              <a:ext cx="116928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921200" y="1296360"/>
              <a:ext cx="0" cy="302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9800" y="1576080"/>
              <a:ext cx="16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Low-Z ma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39480" y="1987560"/>
              <a:ext cx="7012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 flipV="1">
            <a:off x="893520" y="3212640"/>
            <a:ext cx="549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66560" y="3645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1400" y="2565360"/>
            <a:ext cx="1477800" cy="165240"/>
          </a:xfrm>
          <a:custGeom>
            <a:avLst/>
            <a:gdLst/>
            <a:ahLst/>
            <a:rect l="l" t="t" r="r" b="b"/>
            <a:pathLst>
              <a:path w="862" h="104">
                <a:moveTo>
                  <a:pt x="862" y="52"/>
                </a:moveTo>
                <a:cubicBezTo>
                  <a:pt x="809" y="78"/>
                  <a:pt x="756" y="104"/>
                  <a:pt x="726" y="97"/>
                </a:cubicBezTo>
                <a:cubicBezTo>
                  <a:pt x="696" y="90"/>
                  <a:pt x="704" y="7"/>
                  <a:pt x="681" y="7"/>
                </a:cubicBezTo>
                <a:cubicBezTo>
                  <a:pt x="658" y="7"/>
                  <a:pt x="613" y="97"/>
                  <a:pt x="590" y="97"/>
                </a:cubicBezTo>
                <a:cubicBezTo>
                  <a:pt x="567" y="97"/>
                  <a:pt x="567" y="7"/>
                  <a:pt x="544" y="7"/>
                </a:cubicBezTo>
                <a:cubicBezTo>
                  <a:pt x="521" y="7"/>
                  <a:pt x="477" y="97"/>
                  <a:pt x="454" y="97"/>
                </a:cubicBezTo>
                <a:cubicBezTo>
                  <a:pt x="431" y="97"/>
                  <a:pt x="431" y="7"/>
                  <a:pt x="408" y="7"/>
                </a:cubicBezTo>
                <a:cubicBezTo>
                  <a:pt x="385" y="7"/>
                  <a:pt x="341" y="97"/>
                  <a:pt x="318" y="97"/>
                </a:cubicBezTo>
                <a:cubicBezTo>
                  <a:pt x="295" y="97"/>
                  <a:pt x="295" y="7"/>
                  <a:pt x="272" y="7"/>
                </a:cubicBezTo>
                <a:cubicBezTo>
                  <a:pt x="249" y="7"/>
                  <a:pt x="212" y="97"/>
                  <a:pt x="182" y="97"/>
                </a:cubicBezTo>
                <a:cubicBezTo>
                  <a:pt x="152" y="97"/>
                  <a:pt x="121" y="14"/>
                  <a:pt x="91" y="7"/>
                </a:cubicBezTo>
                <a:cubicBezTo>
                  <a:pt x="61" y="0"/>
                  <a:pt x="15" y="45"/>
                  <a:pt x="0" y="52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85920" y="2637000"/>
            <a:ext cx="17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Backscattering trapped</a:t>
            </a:r>
            <a:br>
              <a:rPr sz="1000"/>
            </a:b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 by detector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70120" y="3068640"/>
            <a:ext cx="33552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condary particles are produced at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CD itself, Beam pipe, and downstream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f the beam line. 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Those contaminations are small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about 5%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condary particles have ~ a few MeV.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rapped by detector field and back to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he detec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QCS’s edge is interference to the 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pread-out extracted bea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67B2-D8C4-448A-8674-119BE1F9B8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92240" y="1268280"/>
            <a:ext cx="5695920" cy="2822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4724280"/>
            <a:ext cx="54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ll simulation program based on Geant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been developed to simulate the entire B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296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343480" y="3933720"/>
            <a:ext cx="4457880" cy="2316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441120" y="40464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map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39240" y="63295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nabe/Ai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05680" y="1052640"/>
            <a:ext cx="1854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ing 6m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* = 3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0640" y="549360"/>
            <a:ext cx="8915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background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Delive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90680" y="357336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onents ~ 2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2240" y="4365720"/>
            <a:ext cx="1328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S-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0640" y="2205000"/>
            <a:ext cx="30441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1) Synchrotron radiation pho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2)  Muon from lost halo electr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F295-3442-4527-9E45-3ED66CB5E5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404280"/>
            <a:ext cx="89154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S-SIM: Synchrotron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28760" y="1744560"/>
            <a:ext cx="7723080" cy="33670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888160" y="3716280"/>
            <a:ext cx="3747960" cy="1768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88000" y="1341360"/>
            <a:ext cx="71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 distribution of SR photons arising from beam halo, at 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57800" y="4581360"/>
            <a:ext cx="1840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E&gt; = 4.76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0000" y="4854600"/>
            <a:ext cx="20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2240" y="5084640"/>
            <a:ext cx="60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halo is assumed to have a uniform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8520" y="5445000"/>
            <a:ext cx="90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hotons reaches to IP are produced mainly at FF quadrupole and last bending mag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0200" y="5824440"/>
            <a:ext cx="81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se photons are predominantly contained within beam pipe, normaly ~ 1.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721280" y="19890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49760" y="47451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78D6-CBE6-4466-BC00-2DEEDCB868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DS-SIM: Muon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62040" y="1641600"/>
            <a:ext cx="7186680" cy="3574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021320" y="105264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uons are produced predominantly at collimator se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ut the most of the muons are absorbed before reaching the 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77040" y="48690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uon creation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70040" y="5300640"/>
            <a:ext cx="68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umber of electrons required to hit the collimators /Muons at detector(16x16x16m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052640" y="386064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3200" y="5824440"/>
            <a:ext cx="83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on pipes are effective to reduce muon backgrounds originating from collima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DFAC-56C9-4DBF-9A7F-B1D50D25E5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4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47320" y="1341360"/>
            <a:ext cx="94107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pair background for the VTX detector has been stu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 20mrad crossing angle, hit density is estimated to be about 1.0/mm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train. This is corresponding to 1.5x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in  background source of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pair comes from interaction points direct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re is no significant differences for the VTX, even crossing angle is widen up to 20m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e+e- pairs hit QC at downstream, so that the consideration of  arrangement will be necessary, as well as the design of beam dump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pstream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nchrotron radiation and Muon backgrounds has been studied using Geant4 based Beam delivery simul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urther study with updated BSD design and with detector simulator is desirable.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This work will gives an answer about a precise estimation of neutron background from extraction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E190-CA83-405A-89C8-CCD2EAE58D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9400" y="980640"/>
            <a:ext cx="9629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Background for Vertex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00"/>
                </a:solidFill>
                <a:latin typeface="Arial"/>
              </a:rPr>
              <a:t>Synchrotron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condary particles, electrons and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eam-Beam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pair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cc00"/>
                </a:solidFill>
                <a:latin typeface="Arial"/>
              </a:rPr>
              <a:t>Two-Photon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arged had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Influence of background on CCD based V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adiation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n Ionizing Energy Loss increases C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used by high energy charged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pends on the particl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6CA0-6E8B-4A12-917F-E230A28F49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61680" y="404640"/>
            <a:ext cx="8915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r distribution at Z=330cm, B=4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72840" y="85716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flow in 0.5mm square mesh / b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826320" y="3860640"/>
            <a:ext cx="2760480" cy="2394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651040" cy="2300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28760" y="3860640"/>
            <a:ext cx="2651040" cy="2300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3605040" y="1268280"/>
            <a:ext cx="2695680" cy="23385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3589200" y="3860640"/>
            <a:ext cx="2727360" cy="2367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6826320" y="1268280"/>
            <a:ext cx="2728800" cy="2367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794520" y="14320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mrad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6480" y="4005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mrad posi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91760" y="40766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mrad posi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91760" y="1484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mrad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295760" y="1413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mrad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219080" y="4149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mrad Posi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06600" y="1197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00800" y="148428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00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02960" y="21337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00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72440" y="29242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1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248A-7601-4A97-9739-2E60C990B4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410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-Beam background for V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VTX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BD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DBC4-AC11-4220-BCCD-BE8DDEC2A0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9400" y="115560"/>
            <a:ext cx="8915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r distribution at Z=330cm,B=0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62040" y="836640"/>
            <a:ext cx="3119400" cy="270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62040" y="3573360"/>
            <a:ext cx="3120840" cy="2706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829160" y="765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mrad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9160" y="3573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mrad Posi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E664-B3E2-4B48-AA5F-72276FD65B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9400" y="404280"/>
            <a:ext cx="8915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k Energy 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70000" y="1119240"/>
            <a:ext cx="4682880" cy="23097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92240" y="3645000"/>
            <a:ext cx="4760640" cy="2347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5111640" y="1158840"/>
            <a:ext cx="4602240" cy="2270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5111640" y="3716280"/>
            <a:ext cx="4602240" cy="2270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398600" y="8366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mrad crossing / 4Te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51800" y="8366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mrad crossing / 4Te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89600" y="47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/m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83440" y="17208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04320" y="4149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486480" y="17733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28440" y="4221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85600" y="3429000"/>
            <a:ext cx="842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-403560" y="1865160"/>
            <a:ext cx="1410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D3A3-47EB-42E3-8075-BFA8ED7140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 ori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mrad,B4,R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766960" y="2708280"/>
            <a:ext cx="3939480" cy="2663280"/>
            <a:chOff x="2766960" y="2708280"/>
            <a:chExt cx="3939480" cy="2663280"/>
          </a:xfrm>
        </p:grpSpPr>
        <p:grpSp>
          <p:nvGrpSpPr>
            <p:cNvPr id="356" name=""/>
            <p:cNvGrpSpPr/>
            <p:nvPr/>
          </p:nvGrpSpPr>
          <p:grpSpPr>
            <a:xfrm>
              <a:off x="2766960" y="2781000"/>
              <a:ext cx="3939480" cy="2590560"/>
              <a:chOff x="2766960" y="2781000"/>
              <a:chExt cx="3939480" cy="2590560"/>
            </a:xfrm>
          </p:grpSpPr>
          <p:pic>
            <p:nvPicPr>
              <p:cNvPr id="3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66960" y="2781000"/>
                <a:ext cx="3939480" cy="25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>
                <a:off x="3867480" y="402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eam pip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08680" y="3075480"/>
                <a:ext cx="0" cy="20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81520" y="4102920"/>
                <a:ext cx="226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5681520" y="3075480"/>
                <a:ext cx="0" cy="102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227560" y="4102920"/>
                <a:ext cx="37872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3486600" y="3882960"/>
                <a:ext cx="453600" cy="29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5462280" y="2708280"/>
              <a:ext cx="103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*=3.5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3650-D973-4F7A-9E92-E3C660F65F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S-SIM: Synchrotron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28760" y="1413000"/>
            <a:ext cx="7188120" cy="3133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344600" y="1052640"/>
            <a:ext cx="68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distribution of SR photons arising from nominal beam at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810560" y="200808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th ~ 0.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654520" y="3429000"/>
            <a:ext cx="3556080" cy="16812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743880" y="4076640"/>
            <a:ext cx="1776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&gt; = 0.35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00" y="5157720"/>
            <a:ext cx="89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r and long tail distribution in x-direction is due to photons generated at the bending magn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4400" y="5445000"/>
            <a:ext cx="845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hotons reaches to IP are mainly produces at FF quadrupole  and the last bending magn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5680" y="573408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s are predominantly contained within beam pi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773B-AF30-44AC-B197-E1F30F1D3A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00" y="3333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am-Beam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9640" y="1052280"/>
            <a:ext cx="10690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coherent 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pair p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tudied with CAIN MC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cesses included in CAIN, 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am-Beam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reit-Wheeler (gamma + gamma -&gt;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eth-Heitler    (gamma +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+-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-&gt;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+-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+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+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andau-Lifshitz (e  +  e   -&gt; e  +  e  +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remsstrahlung (e  +  e  -&gt; e  +  e  + gam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ckground situation depe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am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P region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tector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 estimated the hit density on the VTX detector 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or some of the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B771-4864-43BA-8E48-3765D67E03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83920" y="33300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of Beam-Bea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3933720"/>
            <a:ext cx="6515280" cy="27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TRC500 Beam parameter [Technical Review Committee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Beam Energy           250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Repetition rate        15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Bunch population    0.75x10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Normalized emittance</a:t>
            </a:r>
            <a:br>
              <a:rPr sz="1200"/>
            </a:b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                 360/4 (10</a:t>
            </a:r>
            <a:r>
              <a:rPr b="1" lang="ja-JP" sz="12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rad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Beam size at IP</a:t>
            </a:r>
            <a:br>
              <a:rPr sz="1200"/>
            </a:b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               243nm/3nm/110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Crab cro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0mrad/7mrad/20m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Current interest of crossing angle is </a:t>
            </a:r>
            <a:br>
              <a:rPr sz="1200"/>
            </a:b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a larger crossing angle, because of </a:t>
            </a:r>
            <a:br>
              <a:rPr sz="1200"/>
            </a:b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he design of final focus systems </a:t>
            </a:r>
            <a:br>
              <a:rPr sz="1200"/>
            </a:b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as well as beam dump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1520" y="9810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Verdana"/>
              </a:rPr>
              <a:t>Head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Verdana"/>
              </a:rPr>
              <a:t>Incoherent e+e-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760" y="1700280"/>
            <a:ext cx="2550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 going electron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es spread-out positrons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nce the same sign charge a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incoming positron be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79800" y="907920"/>
            <a:ext cx="6825960" cy="2820960"/>
            <a:chOff x="3079800" y="907920"/>
            <a:chExt cx="6825960" cy="28209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079800" y="907920"/>
              <a:ext cx="6825960" cy="28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263840" y="118728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Verdana"/>
                </a:rPr>
                <a:t>Posi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18960" y="118728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937680" y="1763280"/>
              <a:ext cx="0" cy="577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45640" y="1476000"/>
              <a:ext cx="9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~500m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29240" y="2700000"/>
              <a:ext cx="233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94160" y="2842920"/>
              <a:ext cx="9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Verdana"/>
                </a:rPr>
                <a:t>~100m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576760" y="5805360"/>
            <a:ext cx="335448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22880" y="5373360"/>
            <a:ext cx="2340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052680" y="5460480"/>
            <a:ext cx="2806920" cy="792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72360" y="57484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291440" y="5157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48160" y="4869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45600" y="61657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lectron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22000" y="6165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Positron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291440" y="5373360"/>
            <a:ext cx="1015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291440" y="5473440"/>
            <a:ext cx="1082520" cy="331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291440" y="5229360"/>
            <a:ext cx="938160" cy="576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291440" y="5589360"/>
            <a:ext cx="1093680" cy="215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15000" y="522936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elect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82800" y="501336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Verdana"/>
              </a:rPr>
              <a:t>posit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516000" y="3645000"/>
            <a:ext cx="2727720" cy="1243440"/>
            <a:chOff x="6516000" y="3645000"/>
            <a:chExt cx="2727720" cy="1243440"/>
          </a:xfrm>
        </p:grpSpPr>
        <p:sp>
          <p:nvSpPr>
            <p:cNvPr id="147" name=""/>
            <p:cNvSpPr/>
            <p:nvPr/>
          </p:nvSpPr>
          <p:spPr>
            <a:xfrm>
              <a:off x="6592320" y="3645000"/>
              <a:ext cx="22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am profile at 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82560" y="4581360"/>
              <a:ext cx="7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3n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05160" y="4653000"/>
              <a:ext cx="10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16000" y="407664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0n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8560" y="436572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95400" y="4365720"/>
              <a:ext cx="1948320" cy="21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05160" y="4365720"/>
              <a:ext cx="194832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6720" y="4265640"/>
              <a:ext cx="663480" cy="92160"/>
            </a:xfrm>
            <a:custGeom>
              <a:avLst/>
              <a:gdLst/>
              <a:ahLst/>
              <a:rect l="l" t="t" r="r" b="b"/>
              <a:pathLst>
                <a:path w="221" h="58">
                  <a:moveTo>
                    <a:pt x="0" y="58"/>
                  </a:moveTo>
                  <a:cubicBezTo>
                    <a:pt x="3" y="54"/>
                    <a:pt x="5" y="49"/>
                    <a:pt x="9" y="45"/>
                  </a:cubicBezTo>
                  <a:cubicBezTo>
                    <a:pt x="13" y="41"/>
                    <a:pt x="20" y="40"/>
                    <a:pt x="23" y="36"/>
                  </a:cubicBezTo>
                  <a:cubicBezTo>
                    <a:pt x="40" y="14"/>
                    <a:pt x="10" y="27"/>
                    <a:pt x="41" y="18"/>
                  </a:cubicBezTo>
                  <a:cubicBezTo>
                    <a:pt x="60" y="5"/>
                    <a:pt x="71" y="4"/>
                    <a:pt x="95" y="0"/>
                  </a:cubicBezTo>
                  <a:cubicBezTo>
                    <a:pt x="120" y="1"/>
                    <a:pt x="146" y="1"/>
                    <a:pt x="171" y="4"/>
                  </a:cubicBezTo>
                  <a:cubicBezTo>
                    <a:pt x="182" y="5"/>
                    <a:pt x="203" y="13"/>
                    <a:pt x="203" y="13"/>
                  </a:cubicBezTo>
                  <a:cubicBezTo>
                    <a:pt x="207" y="16"/>
                    <a:pt x="213" y="18"/>
                    <a:pt x="216" y="22"/>
                  </a:cubicBezTo>
                  <a:cubicBezTo>
                    <a:pt x="219" y="26"/>
                    <a:pt x="221" y="36"/>
                    <a:pt x="221" y="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8920" y="4005360"/>
              <a:ext cx="273240" cy="360360"/>
            </a:xfrm>
            <a:custGeom>
              <a:avLst/>
              <a:gdLst/>
              <a:ahLst/>
              <a:rect l="l" t="t" r="r" b="b"/>
              <a:pathLst>
                <a:path w="159" h="227">
                  <a:moveTo>
                    <a:pt x="0" y="227"/>
                  </a:moveTo>
                  <a:cubicBezTo>
                    <a:pt x="56" y="178"/>
                    <a:pt x="113" y="129"/>
                    <a:pt x="136" y="91"/>
                  </a:cubicBezTo>
                  <a:cubicBezTo>
                    <a:pt x="159" y="53"/>
                    <a:pt x="147" y="26"/>
                    <a:pt x="136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58640" y="40766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11560" y="393372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e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5AB8-2453-4F2A-8867-C4D2F09E7D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7480" y="4608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roperty of e+e- pair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437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+e- pair production (CAIN incoherent pai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30760" y="148428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For all e+/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7680" y="184464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C500-20m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70000" y="2133720"/>
            <a:ext cx="4841640" cy="4209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2360" y="486900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ner R=15mm at B=3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5880" y="5548320"/>
            <a:ext cx="3747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484520" y="2565000"/>
            <a:ext cx="0" cy="3313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1520" y="314172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99"/>
                </a:solidFill>
                <a:latin typeface="Arial"/>
              </a:rPr>
              <a:t>Detector Accep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99"/>
                </a:solidFill>
                <a:latin typeface="Arial"/>
              </a:rPr>
              <a:t>|Cos| &lt; 0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052640" y="515736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092120" y="3573360"/>
            <a:ext cx="3920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440" y="2637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t vs |cos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813280" y="3429000"/>
            <a:ext cx="3273480" cy="2841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516720" y="3860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45120" y="1319040"/>
            <a:ext cx="2435400" cy="2109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70640" y="1484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7d"/>
                </a:solidFill>
                <a:latin typeface="Arial"/>
              </a:rPr>
              <a:t>|cos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8526-1446-4DD5-A572-61D0B0815F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557360"/>
            <a:ext cx="4865760" cy="4219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9400" y="33336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perty of e+e- pair production   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1000" y="765000"/>
            <a:ext cx="397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Pt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with acceptance cut of |cos|&lt;0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5120" y="1052640"/>
            <a:ext cx="436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ing Angle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VTX acceptance c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869000"/>
            <a:ext cx="8915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a significant dependency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ing angle is ob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t, Hit at VTX involve effect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Geometrical effect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curling track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secondary particles produced in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2520" y="206532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660066"/>
                </a:solidFill>
                <a:latin typeface="Verdana"/>
              </a:rPr>
              <a:t>R=15mm, B=3T </a:t>
            </a:r>
            <a:r>
              <a:rPr b="1" lang="ja-JP" sz="1200" spc="-1" strike="noStrike">
                <a:solidFill>
                  <a:srgbClr val="660066"/>
                </a:solidFill>
                <a:latin typeface="Verdana"/>
              </a:rPr>
              <a:t>[cos&lt;0.96,Pt&gt;6.75MeV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29560" y="3362400"/>
            <a:ext cx="29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660066"/>
                </a:solidFill>
                <a:latin typeface="Verdana"/>
              </a:rPr>
              <a:t>R=15mm, B=4T </a:t>
            </a:r>
            <a:r>
              <a:rPr b="1" lang="ja-JP" sz="1200" spc="-1" strike="noStrike">
                <a:solidFill>
                  <a:srgbClr val="660066"/>
                </a:solidFill>
                <a:latin typeface="Verdana"/>
              </a:rPr>
              <a:t>[cos&lt;0.96,Pt&gt;9MeV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56200" y="4226040"/>
            <a:ext cx="31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660066"/>
                </a:solidFill>
                <a:latin typeface="Verdana"/>
              </a:rPr>
              <a:t>R=24mm, B=3T </a:t>
            </a:r>
            <a:r>
              <a:rPr b="1" lang="ja-JP" sz="1200" spc="-1" strike="noStrike">
                <a:solidFill>
                  <a:srgbClr val="660066"/>
                </a:solidFill>
                <a:latin typeface="Verdana"/>
              </a:rPr>
              <a:t>[cos&lt;0.90,Pt&gt;10.8MeV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28760" y="1341360"/>
            <a:ext cx="4086000" cy="35434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16200000">
            <a:off x="4326480" y="23857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s/B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8555-3180-4323-A930-1E548B9476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s on the VTX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3920" y="1483920"/>
            <a:ext cx="9204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PITER: the detector sim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-Field dependence  (3Tesla/4Tes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ing angle depend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(0mrad/7mrad/20mr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IN+JUP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Region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*=3.5m w Super-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*=3.5m w Compact-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D8E2-AEF1-468F-8040-CEB4B3C626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0640" y="404280"/>
            <a:ext cx="452448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and VTX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0000" y="4508640"/>
            <a:ext cx="2082600" cy="2189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907200" y="43657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VTX det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8880" y="4653000"/>
            <a:ext cx="196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5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ja-JP" sz="1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Layer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R=15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dZ= 50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CCD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100um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Verdana"/>
              </a:rPr>
              <a:t>30um a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51000" y="549360"/>
            <a:ext cx="3666960" cy="410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65720" y="134136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1840" y="600120"/>
            <a:ext cx="23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OL (3 or 4 Tesla)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Uniform field was assu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440" y="1197000"/>
            <a:ext cx="1050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Beam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 </a:t>
            </a: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R  =11mm</a:t>
            </a:r>
            <a:br>
              <a:rPr sz="1200"/>
            </a:b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 dR=0.5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 </a:t>
            </a: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dZ=10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 </a:t>
            </a: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09400" y="2206800"/>
            <a:ext cx="74520" cy="1582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4160" y="2276640"/>
            <a:ext cx="106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Beam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 </a:t>
            </a: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R  =73mm</a:t>
            </a:r>
            <a:br>
              <a:rPr sz="1200"/>
            </a:b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 dR=2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 </a:t>
            </a:r>
            <a:r>
              <a:rPr b="1" lang="ja-JP" sz="12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Alumin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4880" y="3068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065320" y="2637000"/>
            <a:ext cx="549360" cy="1008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46520" y="2637000"/>
            <a:ext cx="312480" cy="93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91400" y="2349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ccff"/>
                </a:solidFill>
                <a:latin typeface="Verdana"/>
              </a:rPr>
              <a:t>W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23160" y="422100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cccce6"/>
                </a:solidFill>
                <a:latin typeface="Verdana"/>
              </a:rPr>
              <a:t>Low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378160" y="4221000"/>
            <a:ext cx="79200" cy="14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238560" y="4221000"/>
            <a:ext cx="23328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340160" y="1268280"/>
            <a:ext cx="5538240" cy="2067120"/>
            <a:chOff x="4340160" y="1268280"/>
            <a:chExt cx="5538240" cy="2067120"/>
          </a:xfrm>
        </p:grpSpPr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4560120" y="1627200"/>
              <a:ext cx="437688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83840" y="1268280"/>
              <a:ext cx="38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For small crossing,0mrad/7mr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03520" y="2492280"/>
              <a:ext cx="4772520" cy="27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894160" y="2563920"/>
              <a:ext cx="89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incom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Verdana"/>
                </a:rPr>
                <a:t>b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340160" y="2440080"/>
              <a:ext cx="490176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95960" y="2203560"/>
              <a:ext cx="98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downstr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469640" y="328464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ner/Outer radi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8cm/16.5cm 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38160" y="595008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ner/Outer radi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cm/5.5cm 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50000" y="3429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*=3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9760" y="4005360"/>
            <a:ext cx="3092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562640" y="4149720"/>
            <a:ext cx="4446360" cy="1670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4406760" y="4894200"/>
            <a:ext cx="4896000" cy="85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897400" y="462132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ownst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28640" y="5038200"/>
            <a:ext cx="4869000" cy="32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894520" y="5124600"/>
            <a:ext cx="89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in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90040" y="386064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 large crossing, 20m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70240" y="3933720"/>
            <a:ext cx="335772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70240" y="2707920"/>
            <a:ext cx="319896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F297-6B39-47CC-A7D7-BAD49BB9D4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18864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Event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906120" cy="3124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08280" y="155268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mrad crossing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rupted bea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CWS2004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ECB0-3A5C-42A7-A095-26E01FB86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23:18:03Z</dcterms:created>
  <dc:creator>阿蘇研究室</dc:creator>
  <dc:description/>
  <dc:language>en-US</dc:language>
  <cp:lastModifiedBy>阿蘇研究室</cp:lastModifiedBy>
  <dcterms:modified xsi:type="dcterms:W3CDTF">2004-04-16T07:45:13Z</dcterms:modified>
  <cp:revision>88</cp:revision>
  <dc:subject/>
  <dc:title>Beam background study for GLC</dc:title>
</cp:coreProperties>
</file>