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9778-5C3B-47EA-B1A3-9A6A6686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8A7-CD20-4360-99C1-5789F608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DAD6-A6F9-4F3B-8795-3E21F4C5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D55E-0D39-4349-ACE9-A388AD72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9088-1486-41B5-8996-3D894DE3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64E0-1648-4298-A957-5D4C202C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813D-3E6D-4C6F-8A05-AC5AD360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2AF3-FF86-4658-A692-A54900CD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5C6F-05E2-422C-BA66-92894E4A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0947-EA10-4110-8DEE-D8CA453E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F97E-04FD-45EF-BB52-7D2F490F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EE38-22B1-44CD-BCC1-27D7E72C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13AA-DC41-4B09-96A1-E0797220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9184-E3B0-4811-A1AE-E7F644A5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8279-24AD-442E-8FE2-0427B926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647F-4316-4E72-B2B1-1E5DC5AB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CEDA-FC88-4F25-88E6-94559CE3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0BB-24D7-45DC-8A04-71C9A6F1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30A0-6D9A-4F2A-A0E0-AC68EF0D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E65-7516-444D-85AC-97CB14BF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2B67-6555-449A-8838-87FF7FFF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099-3064-4921-AD8E-EED3E606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C80-D887-47C0-A232-31A4A6F3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9125-2090-4F80-8DF3-E95DE58D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C1A3-0C4B-423F-BC88-86F596F60B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5FBF-F7FA-402A-9098-105B5A1490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&amp;D Status/Plan for FPCCD VTX Detector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/5/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. Sugim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LCWS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7170 SPL 15</a:t>
            </a:r>
            <a:r>
              <a:rPr b="1" lang="en-US" sz="3900" spc="-1" strike="noStrike">
                <a:solidFill>
                  <a:srgbClr val="330066"/>
                </a:solidFill>
                <a:latin typeface="Symbol"/>
                <a:ea typeface="Symbol"/>
              </a:rPr>
              <a:t>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Higher resistivity 15</a:t>
            </a:r>
            <a:r>
              <a:rPr b="0" lang="ja-JP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m thick epi-lay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N;11-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3068640"/>
            <a:ext cx="71928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7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2360" y="3068640"/>
            <a:ext cx="71892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3744720" cy="32828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3743280" cy="3281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835280" y="5950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7170 SPL 24</a:t>
            </a:r>
            <a:r>
              <a:rPr b="1" lang="en-US" sz="3900" spc="-1" strike="noStrike">
                <a:solidFill>
                  <a:srgbClr val="330066"/>
                </a:solidFill>
                <a:latin typeface="Symbol"/>
                <a:ea typeface="Symbol"/>
              </a:rPr>
              <a:t>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Highest resistivity 24</a:t>
            </a:r>
            <a:r>
              <a:rPr b="0" lang="ja-JP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m thick epi-lay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N; 22-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79640" y="3068640"/>
            <a:ext cx="71928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7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72360" y="3068640"/>
            <a:ext cx="71892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3745080" cy="32828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745080" cy="3281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692360" y="587700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071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lly depleted epitaxial layer is the key issue of FPCCD vertex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 signal distributions of a newly developed CCD, S7170-0909 SPL 24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, at two different gate voltages of -7V and +6V during the LASER illumination wer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rom this result, we can conclude that S7170-0909 SPL 24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 is fully depleted even at the gate voltage of -7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asurement of Lorentz angle and study of radiation hardness of  this CCD are planned in this 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brication of smaller pixel, multi-port readout CCD and ASIC for readout of the multi-port CCD are also planned in this F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PCCD Vertex Detect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ccumulate hit signals for one train (2840 BX) and read out between trains (200ms)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Completely free from E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Fine pixel of ~5</a:t>
            </a:r>
            <a:r>
              <a:rPr b="0" lang="ja-JP" sz="1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m (x20 more pixels than “standard” pixels) to keep low pixel occupanc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patial resolution of ~1.5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 even with digital read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xcellent two-track separation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ff"/>
                </a:solidFill>
                <a:latin typeface="Arial"/>
              </a:rPr>
              <a:t>Fully depleted epitaxial layer to minimize the number of hit pixels due to charge spread by diffusio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wo layers in proximity make a doublet (super layer) to minimize the wrong-tracking probability due to multiple scatter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hree doublets (6 CCD layers) make the detector (in GLD DOD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racking capability with single layer using hit cluster shape can help background reje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Multi-port readout with moderate (~10MHz) speed (Very fast readout (&gt;50MHz) not necessary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imple structure </a:t>
            </a:r>
            <a:r>
              <a:rPr b="0" lang="ja-JP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 Large are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No heat source in the image are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6408720" cy="23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6877080" y="4076640"/>
          <a:ext cx="1868400" cy="2555640"/>
        </p:xfrm>
        <a:graphic>
          <a:graphicData uri="http://schemas.openxmlformats.org/drawingml/2006/table">
            <a:tbl>
              <a:tblPr/>
              <a:tblGrid>
                <a:gridCol w="853920"/>
                <a:gridCol w="1014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(m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(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(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042920" y="1413000"/>
          <a:ext cx="7139160" cy="21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413000"/>
                    <a:ext cx="713916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velopment of Fully-depleted CCD by HP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48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Confirmation of full-depletion using line-focused LA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ASER light (532nm)  focused to a thin (&lt;pixel size) line was illuminated to CCDs slightly inclined w.r.t. CCD pixel grid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ffectively scan inside a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mpare signal distribution between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g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-7V and V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g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+6V during LASER 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f distributions are same, the CCD is fully depleted in both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3280" y="1700280"/>
          <a:ext cx="403884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700280"/>
                    <a:ext cx="403884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788000" y="3876840"/>
          <a:ext cx="4065480" cy="281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3876840"/>
                    <a:ext cx="4065480" cy="28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5651640" y="4005360"/>
            <a:ext cx="288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38160" y="3716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7280" y="1773360"/>
          <a:ext cx="6496200" cy="38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649620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330066"/>
                </a:solidFill>
                <a:latin typeface="Arial"/>
              </a:rPr>
              <a:t>Potential v.s. Vga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09640" y="1719360"/>
            <a:ext cx="5722920" cy="4411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069080" y="3160800"/>
            <a:ext cx="1446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gat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=0 – 6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 rot="16200000">
            <a:off x="5123520" y="2732760"/>
            <a:ext cx="3889440" cy="3408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68360" y="2438280"/>
            <a:ext cx="446400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ul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27280" y="2852640"/>
            <a:ext cx="144360" cy="3097440"/>
          </a:xfrm>
          <a:custGeom>
            <a:avLst/>
            <a:gdLst>
              <a:gd name="textAreaLeft" fmla="*/ 6840 w 144360"/>
              <a:gd name="textAreaRight" fmla="*/ 137520 w 144360"/>
              <a:gd name="textAreaTop" fmla="*/ 6840 h 3097440"/>
              <a:gd name="textAreaBottom" fmla="*/ 3090600 h 3097440"/>
            </a:gdLst>
            <a:ahLst/>
            <a:rect l="textAreaLeft" t="textAreaTop" r="textAreaRight" b="textAreaBottom"/>
            <a:pathLst>
              <a:path w="21600" h="462358">
                <a:moveTo>
                  <a:pt x="3600" y="0"/>
                </a:moveTo>
                <a:arcTo wR="3600" hR="3600" stAng="16200000" swAng="-5400000"/>
                <a:lnTo>
                  <a:pt x="0" y="458758"/>
                </a:lnTo>
                <a:arcTo wR="3600" hR="3600" stAng="10800000" swAng="-5400000"/>
                <a:lnTo>
                  <a:pt x="18000" y="4623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1640" y="4724280"/>
            <a:ext cx="2905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38560" y="4432320"/>
            <a:ext cx="1054080" cy="2682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7170 Standar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Back-illu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Low resistivity epitaxial layer </a:t>
            </a:r>
            <a:r>
              <a:rPr b="0" lang="ja-JP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 thin depletion lay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.N.; BF3-0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3816360" cy="33447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859280" y="3367080"/>
            <a:ext cx="3816360" cy="3343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979640" y="3068640"/>
            <a:ext cx="71928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7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72360" y="3068640"/>
            <a:ext cx="71892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5640" y="595008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26520" y="5445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7170 Deep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Higher resistivity 30</a:t>
            </a:r>
            <a:r>
              <a:rPr b="0" lang="ja-JP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m thick epitaxial lay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N; FF16-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9640" y="3365640"/>
            <a:ext cx="3816360" cy="33429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816360" cy="3344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79640" y="3068640"/>
            <a:ext cx="71928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7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72360" y="3068640"/>
            <a:ext cx="71892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602136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2:47:25Z</dcterms:created>
  <dc:creator>Sugimoto</dc:creator>
  <dc:description/>
  <dc:language>en-US</dc:language>
  <cp:lastModifiedBy>sugimoto</cp:lastModifiedBy>
  <dcterms:modified xsi:type="dcterms:W3CDTF">2007-05-31T05:19:55Z</dcterms:modified>
  <cp:revision>10</cp:revision>
  <dc:subject/>
  <dc:title>Charge Spread Measurement</dc:title>
</cp:coreProperties>
</file>