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7BEF-4CF4-4699-A264-CE35FEAE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BF98-165E-4E40-B46C-34FA7150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FD5D-31C5-42F1-819F-FE9F8267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9909-42E1-4970-9443-868FF925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C6B8-569C-4F2A-9E4F-A8E9103C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FD04-97A9-438F-A46F-39052927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A028-51F2-49BD-8301-543A754C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3E3B-67C7-4631-933A-E87DAFEF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265C-E7FD-4221-9DF4-12B3EC35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F9EB-C36C-4776-97C7-4DEE3D26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7E31-F31A-4CA5-9B0C-33F81448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9B71-C910-4850-B6D5-D4A0CAF6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6936-240C-4310-AE56-E6C59874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1206-980F-4BF6-8E02-23818495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9532-1D18-41AD-9658-61CB0B65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2A1F-B962-4C5D-8763-7A69DE7B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B714-3AD0-4A87-A34F-8F20BF42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2C6E-3D76-4519-B294-091FABF7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670B-E3AC-4F18-AF6F-03791AF0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07F3-3332-4DE3-B321-7CCC6E1C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2A76-1B50-4FD0-8EED-BDEB52C9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99FF-0E8A-4BA4-862A-303D53BB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AE34-AF12-4F73-A289-C393703F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5BF6-98D0-4570-9889-29C0EBE3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9257-A703-46F9-93E7-5B65FA2F0330}" type="slidenum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C155-8C70-49D3-880A-12C72BEC850A}" type="slidenum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FPCCD Vertex Detector for ILC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.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@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CFA, Beij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. Sugim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rge spre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nt illum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Back illum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Deep2 (30</a:t>
            </a:r>
            <a:r>
              <a:rPr b="0" lang="ja-JP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m ep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4248000" cy="3724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500720" y="2708280"/>
            <a:ext cx="4643280" cy="406872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6804000" y="4869000"/>
            <a:ext cx="1582920" cy="1224000"/>
            <a:chOff x="6804000" y="4869000"/>
            <a:chExt cx="1582920" cy="1224000"/>
          </a:xfrm>
        </p:grpSpPr>
        <p:sp>
          <p:nvSpPr>
            <p:cNvPr id="217" name=""/>
            <p:cNvSpPr/>
            <p:nvPr/>
          </p:nvSpPr>
          <p:spPr>
            <a:xfrm>
              <a:off x="6804000" y="4869000"/>
              <a:ext cx="1582920" cy="12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Full-deple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not comple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Try thinner e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51640" y="5516640"/>
              <a:ext cx="216000" cy="288720"/>
            </a:xfrm>
            <a:prstGeom prst="downArrow">
              <a:avLst>
                <a:gd name="adj1" fmla="val 50000"/>
                <a:gd name="adj2" fmla="val 33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EA of Ladd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47640" y="3933720"/>
            <a:ext cx="5473800" cy="28728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47640" y="3789360"/>
            <a:ext cx="266400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47640" y="4292640"/>
            <a:ext cx="2664000" cy="7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979640" y="2781360"/>
            <a:ext cx="288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1979640" y="3357360"/>
            <a:ext cx="288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6520" y="314172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(CCD waf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3068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VC (Reticulated Vitreous Carb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56000" y="3789360"/>
            <a:ext cx="266544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4292640"/>
            <a:ext cx="2665440" cy="7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47640" y="2349360"/>
            <a:ext cx="5472360" cy="28764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47640" y="2205000"/>
            <a:ext cx="547236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47640" y="2708280"/>
            <a:ext cx="547236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32000" y="2781360"/>
            <a:ext cx="431640" cy="217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04000" y="4365720"/>
            <a:ext cx="432000" cy="217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32000" y="4365720"/>
            <a:ext cx="431640" cy="217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04000" y="2781360"/>
            <a:ext cx="432000" cy="217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47640" y="4869000"/>
            <a:ext cx="547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26160" y="45086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47640" y="2276640"/>
            <a:ext cx="5472360" cy="7128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7640" y="2637000"/>
            <a:ext cx="5472360" cy="7128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47640" y="3860640"/>
            <a:ext cx="5472360" cy="7164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47640" y="4221000"/>
            <a:ext cx="5472360" cy="7164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18520" y="30686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o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84360" y="2708280"/>
            <a:ext cx="4320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626920" y="3284640"/>
            <a:ext cx="28908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95640" y="2492280"/>
            <a:ext cx="647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995280" y="3213000"/>
            <a:ext cx="6476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19480" y="581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02600" y="5589720"/>
            <a:ext cx="500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ormation by self-weight is calculat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 program COM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EA of Ladd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362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meters (assump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900000" y="1989000"/>
          <a:ext cx="8004240" cy="1406520"/>
        </p:xfrm>
        <a:graphic>
          <a:graphicData uri="http://schemas.openxmlformats.org/drawingml/2006/table">
            <a:tbl>
              <a:tblPr/>
              <a:tblGrid>
                <a:gridCol w="2001960"/>
                <a:gridCol w="2000160"/>
                <a:gridCol w="2001960"/>
                <a:gridCol w="2000160"/>
              </a:tblGrid>
              <a:tr h="39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sity (g/c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0 (g/c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(GP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x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1187280" y="3933720"/>
          <a:ext cx="7416720" cy="2344680"/>
        </p:xfrm>
        <a:graphic>
          <a:graphicData uri="http://schemas.openxmlformats.org/drawingml/2006/table">
            <a:tbl>
              <a:tblPr/>
              <a:tblGrid>
                <a:gridCol w="1643040"/>
                <a:gridCol w="1924200"/>
                <a:gridCol w="1925640"/>
                <a:gridCol w="19238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ck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tion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165 g/c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34%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x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573 g/c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4%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84   g/c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34%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x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573 g/c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4%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165 g/c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34%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316 g/cm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82%X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6659640" y="6381720"/>
            <a:ext cx="201600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8%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EA of Ladd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3827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Maximum deform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Without gap : 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  <a:ea typeface="Gungsuh"/>
              </a:rPr>
              <a:t>v</a:t>
            </a:r>
            <a:r>
              <a:rPr b="0" lang="ja-JP" sz="21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=0.536 </a:t>
            </a:r>
            <a:r>
              <a:rPr b="0" lang="ja-JP" sz="21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With 0.2mm gap : v</a:t>
            </a:r>
            <a:r>
              <a:rPr b="0" lang="ja-JP" sz="21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=0.723 </a:t>
            </a:r>
            <a:r>
              <a:rPr b="0" lang="ja-JP" sz="21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For longer lad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100" spc="-1" strike="noStrike" baseline="-25000">
                <a:solidFill>
                  <a:srgbClr val="000000"/>
                </a:solidFill>
                <a:latin typeface="Arial"/>
              </a:rPr>
              <a:t>max 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i="1" lang="ja-JP" sz="2100" spc="-1" strike="noStrike">
                <a:solidFill>
                  <a:srgbClr val="000000"/>
                </a:solidFill>
                <a:latin typeface="New York"/>
              </a:rPr>
              <a:t>l</a:t>
            </a:r>
            <a:r>
              <a:rPr b="0" lang="ja-JP" sz="21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 ~8.6 </a:t>
            </a:r>
            <a:r>
              <a:rPr b="0" lang="ja-JP" sz="21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m for 20cm ladder without ga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995640" y="2060640"/>
            <a:ext cx="514836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We have started R&amp;D of FPCCD for ILC vertex detect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Study of fully depleted CCD is on going in FY2006, and will be continued to FY200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CCD sample with 30</a:t>
            </a:r>
            <a:r>
              <a:rPr b="0" lang="ja-JP" sz="17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m epi seems not fully deple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We will try to measure 15</a:t>
            </a:r>
            <a:r>
              <a:rPr b="0" lang="ja-JP" sz="17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m epi sample so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Lorentz angle measurement and radiation damage test are plann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Finite element analysis was done for a ladder of Si-RVC-Si sandwich struct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0.08% radiation length per layer with [50</a:t>
            </a:r>
            <a:r>
              <a:rPr b="0" lang="ja-JP" sz="17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m Si]x2 + [50</a:t>
            </a:r>
            <a:r>
              <a:rPr b="0" lang="ja-JP" sz="17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m epoxi]x2 + [2mm RVC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Deformation by self weight is less than 10</a:t>
            </a:r>
            <a:r>
              <a:rPr b="0" lang="ja-JP" sz="17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m for 20cm long ladder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The 1</a:t>
            </a:r>
            <a:r>
              <a:rPr b="0" lang="ja-JP" sz="19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 test sample of FPCCD is expected to be made by Hamamatsu in FY200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We wish to construct and test prototype ladders of FPCCD in 4years, but the budget (for r.o. ASIC and support structure) is not enough to complete that goa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llenge of ILC VT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2565000"/>
            <a:ext cx="5041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air background at small 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2000 tracks/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train with B=3T and R=20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occupancy ~10% for 2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pixel, if the signal of one bunch-train (2820 bunches) is accum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to keep the occupancy small (&lt;1%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ut 20 times per train (1ms)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times finer 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292720" y="2133720"/>
            <a:ext cx="4032360" cy="4032000"/>
            <a:chOff x="5292720" y="2133720"/>
            <a:chExt cx="4032360" cy="403200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5292720" y="2133720"/>
              <a:ext cx="4032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832720" y="487008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7129440" y="4654440"/>
              <a:ext cx="1368720" cy="21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32720" y="4582800"/>
              <a:ext cx="1584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5940360" y="2565360"/>
            <a:ext cx="2521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 density (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B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1557360"/>
            <a:ext cx="820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To achieve the performance goal of </a:t>
            </a:r>
            <a:r>
              <a:rPr b="0" i="1" lang="ja-JP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ja-JP" sz="2100" spc="-1" strike="noStrike" baseline="-25000">
                <a:solidFill>
                  <a:srgbClr val="000000"/>
                </a:solidFill>
                <a:latin typeface="Arial"/>
              </a:rPr>
              <a:t>IP 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= 5 </a:t>
            </a:r>
            <a:r>
              <a:rPr b="1" lang="ja-JP" sz="21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10/(</a:t>
            </a:r>
            <a:r>
              <a:rPr b="0" i="1" lang="ja-JP" sz="2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ja-JP" sz="21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ja-JP" sz="2100" spc="-1" strike="noStrike" baseline="30000">
                <a:solidFill>
                  <a:srgbClr val="000000"/>
                </a:solidFill>
                <a:latin typeface="Arial"/>
              </a:rPr>
              <a:t>3/2</a:t>
            </a:r>
            <a:r>
              <a:rPr b="0" i="1" lang="ja-JP" sz="21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ja-JP" sz="21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m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aterial budget should be small: &lt; 0.1% X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/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layer should be put as close to the IP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48000" y="5229360"/>
            <a:ext cx="165564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PC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6021360"/>
            <a:ext cx="842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ectro-magnetic interference (EMI) caused by short-bunch bea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PCCD Vertex Detect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ccumulate hit signals for one train (2840 BX) and read out between trains (200ms) </a:t>
            </a: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Completely free from E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Fine pixel of ~5</a:t>
            </a:r>
            <a:r>
              <a:rPr b="0" lang="ja-JP" sz="19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m (x20 more pixels than “standard” pixels) to keep low pixel occupanc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patial resolution of ~1.5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 even with digital read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xcellent two-track separation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Fully depleted epitaxial layer to minimize the number of hit pixels due to charge spread by diffusio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Two layers in proximity make a doublet (super layer) to minimize the wrong-tracking probability due to multiple scatter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Three doublets (6 CCD layers) make the detector (in GLD DOD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Tracking capability with single layer using hit cluster shape can help background reje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Multi-port readout with moderate (~20MHz) speed (Very fast readout (&gt;50MHz) not necessary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Simpler structure than FAPS or ISIS </a:t>
            </a:r>
            <a:r>
              <a:rPr b="0" lang="ja-JP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 Large are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No heat source in the image are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95280" y="2446200"/>
            <a:ext cx="403848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andard CC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2446200"/>
            <a:ext cx="403848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ne Pixel CC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11280" y="2852640"/>
          <a:ext cx="3960720" cy="3905280"/>
        </p:xfrm>
        <a:graphic>
          <a:graphicData uri="http://schemas.openxmlformats.org/drawingml/2006/table">
            <a:tbl>
              <a:tblPr/>
              <a:tblGrid>
                <a:gridCol w="1320840"/>
                <a:gridCol w="1319040"/>
                <a:gridCol w="1320840"/>
              </a:tblGrid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6e6"/>
                    </a:solidFill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P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g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dcd"/>
                    </a:solidFill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716360" y="2852640"/>
          <a:ext cx="4032360" cy="3881520"/>
        </p:xfrm>
        <a:graphic>
          <a:graphicData uri="http://schemas.openxmlformats.org/drawingml/2006/table">
            <a:tbl>
              <a:tblPr/>
              <a:tblGrid>
                <a:gridCol w="270000"/>
                <a:gridCol w="266760"/>
                <a:gridCol w="269640"/>
                <a:gridCol w="268560"/>
                <a:gridCol w="269640"/>
                <a:gridCol w="268560"/>
                <a:gridCol w="268200"/>
                <a:gridCol w="269640"/>
                <a:gridCol w="268560"/>
                <a:gridCol w="268200"/>
                <a:gridCol w="270000"/>
                <a:gridCol w="268200"/>
                <a:gridCol w="269640"/>
                <a:gridCol w="266760"/>
                <a:gridCol w="2700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 flipV="1">
            <a:off x="5651640" y="4653000"/>
            <a:ext cx="1728720" cy="35856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443280" y="3715920"/>
            <a:ext cx="289080" cy="15130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692360" y="4653000"/>
            <a:ext cx="1728720" cy="35856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2556000" y="3933360"/>
            <a:ext cx="288720" cy="15130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826920" y="5445000"/>
            <a:ext cx="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609300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3440" y="836640"/>
            <a:ext cx="835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G. rejection by hit cluster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racking capability with single layer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G. suppression factor of  2 (co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0) – 20 (co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0.9) is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129440" cy="1900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6408720" cy="234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"/>
          <p:cNvGraphicFramePr/>
          <p:nvPr/>
        </p:nvGraphicFramePr>
        <p:xfrm>
          <a:off x="6877080" y="4076640"/>
          <a:ext cx="1868400" cy="2555640"/>
        </p:xfrm>
        <a:graphic>
          <a:graphicData uri="http://schemas.openxmlformats.org/drawingml/2006/table">
            <a:tbl>
              <a:tblPr/>
              <a:tblGrid>
                <a:gridCol w="853920"/>
                <a:gridCol w="1014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(m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llenge of FPCC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31964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ully depleted – charge sp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rentz 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an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=r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,  r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: Hall coefficient~1,   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: mobility (m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Vs), B: Magnetic field (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tronger E-field in dep. layer (&gt;10</a:t>
            </a:r>
            <a:r>
              <a:rPr b="0" lang="ja-JP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V/cm = 1V/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) gives saturation of  carrier velocity and smaller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pi layer of ~15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 would be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adiation 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mall pixel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~5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ast readout spe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~20Mpix/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ulti-port read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-Register in image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w noi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&lt;50 e (total) </a:t>
            </a:r>
            <a:r>
              <a:rPr b="0" lang="ja-JP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&lt; 30 e (CC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32360" y="170028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ower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l lay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drive pulse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area:10x65m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0x100m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 ladder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0.1%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lay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sential for FPCCD option (high hit dens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well capa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i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out A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essary for proto-type l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orentz ang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tan</a:t>
            </a:r>
            <a:r>
              <a:rPr b="0" lang="ja-JP" sz="3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=r</a:t>
            </a:r>
            <a:r>
              <a:rPr b="0" lang="ja-JP" sz="3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ja-JP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B~</a:t>
            </a:r>
            <a:r>
              <a:rPr b="0" lang="ja-JP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B (</a:t>
            </a:r>
            <a:r>
              <a:rPr b="0" lang="ja-JP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:m</a:t>
            </a:r>
            <a:r>
              <a:rPr b="0" lang="ja-JP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/Vs, B:T), </a:t>
            </a:r>
            <a:r>
              <a:rPr b="0" lang="ja-JP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=v/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71640" y="2238480"/>
            <a:ext cx="5976720" cy="46195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V="1">
            <a:off x="5508720" y="378900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219640" y="4076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835280" y="407664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835280" y="378936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39560" y="39337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0.1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39920" y="357336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0.07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84280" y="49417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0.14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572000" y="515772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35280" y="5157720"/>
            <a:ext cx="504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211640" y="2637000"/>
            <a:ext cx="1512720" cy="32400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&amp;D for FPCC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y of fully depleted CC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rge spr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rentz ang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iation dam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ment of FPCC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 rounds expe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otype ladder in 5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aboration with Hamamats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ization of material budg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fer thi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-RVC-Si sandwich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ment of readout AS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1628640"/>
            <a:ext cx="5040360" cy="2880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35640" y="3357720"/>
            <a:ext cx="115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08720" y="5805360"/>
            <a:ext cx="18000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7308720" y="3068640"/>
            <a:ext cx="0" cy="27367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588000" y="299700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2000" y="2492280"/>
            <a:ext cx="2376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ally fu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udy of charge spre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arat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8281800" cy="3267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659640" y="5589720"/>
            <a:ext cx="216036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D for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ont-illu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00720" y="3284640"/>
            <a:ext cx="23036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D fo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ack-illu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06:26:28Z</dcterms:created>
  <dc:creator>Sugimoto</dc:creator>
  <dc:description/>
  <dc:language>en-US</dc:language>
  <cp:lastModifiedBy>xingcy</cp:lastModifiedBy>
  <dcterms:modified xsi:type="dcterms:W3CDTF">2007-03-22T00:13:20Z</dcterms:modified>
  <cp:revision>19</cp:revision>
  <dc:subject/>
  <dc:title>VTX</dc:title>
</cp:coreProperties>
</file>