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D19-A7C9-4B43-B0E2-20AE7932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7A2-D2FA-4518-AB30-B5B371AC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558-E130-4C84-8341-93ED755C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DBC-7C85-4A8A-A1F7-8601281A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0BE8-097F-4587-9645-064BA4C7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42C3-AB14-4EF9-B29F-ADEB0800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3A24-DBB2-44E2-8B5D-1CB3E4EE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C817-88A6-4F51-8E57-2D7D6562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AC52-39C7-4278-8E5A-80B2D62C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8E15-3141-4679-83B1-4AE4C408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8816-FB2D-4E6C-A1DF-EFED457D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DC9-535B-491F-9FE3-2AA85537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7686-3673-4127-9AFA-782D2BFA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19F6-BB8A-4A6D-8592-0D6530BE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EB7B-5B5B-4C00-8A22-ED88C2BA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D30E-D179-405E-9FB0-6B89E397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6021-D9E8-4817-A963-5A2B8030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59B-3F80-41FA-9AA2-AE60DC7A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AEE-383B-4ED2-AC37-A51DB08D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891-739F-4520-B511-EB06CBB4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2E9A-98F7-4B19-886B-0ABB07E3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672F-B7A6-43B9-A9F2-0DA3363F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C349-8357-4D2F-8118-6C1A6CCA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AAF-8113-4259-90CE-1DC30908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1915-4918-4A77-A7B9-993ABBB25A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EF61-035F-4C3B-BBDE-D884D7373D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 new idea of the vertex detector for ILC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. Sugim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.10.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llenges of FPC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683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n wa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low momentum particles, thin CCD wafer  (&lt;5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) is crucial to g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impact parameter re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rack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ral ide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ly thinned wa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tched thin wa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 wafers on both sides of rigid fo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211640" y="5300640"/>
            <a:ext cx="4038480" cy="758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3816360" cy="2863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296680" y="1989000"/>
            <a:ext cx="24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thinned wa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llenges of FPC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075520" cy="25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Lorentz an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gnal charge in fully depleted CCDs put in a B field moves with finite angle (Lorentz angle) with respect to E-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gnal charge could spread over several pixels due to this Lorentz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f the Lorentz angle is small, it can be cancelled out by putting CCD wafers  with a tilt angle same sa the Lorents ang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987640" y="4508640"/>
            <a:ext cx="40384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llenges of FPC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out electron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 pixel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mall signal for inclined tracks    (as small as ~500 electr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ery low noise readout circuit is necess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lectron Multiplying CCD is an interesting o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port readou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ulti channel readout 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out pitch: less than 1m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riable gain amp, CDS, and 5 – 8 bit ADC for each channel (to keep dynamic rang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compaction circu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llenges of FPC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Radiation hard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Increase of dark current by radiation dam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Room temperature operation of CCDs  seems possible at GLC (6.7ms readout cycle time), but not practical at ILC (200ms readout cycle time) because of too much dark current accumula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Charge transfer inefficiency (CT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Low temperature operation (~-80 </a:t>
            </a:r>
            <a:r>
              <a:rPr b="0" lang="ja-JP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C) is favorable from the viewpoint of CTI caused by radiation dam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FPCCD has small charge transfer channel </a:t>
            </a:r>
            <a:r>
              <a:rPr b="0" lang="ja-JP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 Less C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Radiation immunity of FPCCD for the use as a vertex detector at ILC has to be demonstrat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sible design of FPCCD vertex det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wo layers make a doublet to pick up signal hits out of background hi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Pixel disks may be necessary in the small angle region (cos</a:t>
            </a:r>
            <a:r>
              <a:rPr b="0" lang="ja-JP" sz="1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&gt;0.9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he whole detector is confined in a cryostat and cooled by nitrogen vapo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42920" y="3500280"/>
            <a:ext cx="691848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We propose a totally unique (or ridiculous?) concept of a vertex detector for Cold Mach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ully depleted CCD with 5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-square fine pixel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ccumulate 2820 BX and readout between 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wo layers make a doublet (super layer) to pick up signal hits out of background h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Expected performanc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ixel occupancy ~0.5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rong tracking probability less than 1% in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lt; 0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hings to d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racking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asurement of Lorentz angle (using large pixel F.D. C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posed Options in E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S (Strasburg grou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adout 20 times/tra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umn parallel reado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High speed reado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RF pickup (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PS (RAL grou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 registers/pixel achiev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RF pickup during transfer from pixel to register (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If &gt;20 register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>
                <a:solidFill>
                  <a:srgbClr val="00b400"/>
                </a:solidFill>
                <a:latin typeface="Arial"/>
              </a:rPr>
              <a:t>it can be read out between trai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posed Option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CD (RAL and UK grou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umn Parallel C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adout 20 times/tra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High Speed (&gt;50MHz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RF Pickup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situ Storage Image Sensor (I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b400"/>
                </a:solidFill>
                <a:latin typeface="Arial"/>
              </a:rPr>
              <a:t>Readout between trai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Complicated desig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Cross-tal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options: DEPFET, SOI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options assume the readout of 20 frames/trai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undary Condition at I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Beam Struc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37 ns between B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eferable for SIT, TPC, CAL in terms of bunch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820 BX/train (~x15 of GL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 trains/s (~1/30 of GL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um/train: ~x40 of G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Pair Backgroun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ESLA Study (B=4T,R=15mm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~3.5 hits/BX/cm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100 hits/train/mm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rge Detector Study (B=3T,R=20mm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~1.5 hits/BX/cm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40 hits/train/mm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Pixel Occupancy of the 1</a:t>
            </a:r>
            <a:r>
              <a:rPr b="0" lang="ja-JP" sz="2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 layer of Vertex Detec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ixel size:25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25%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TESLA)/ ~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10%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LD)  for 1 train                  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~4 pixels hit by a track h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o reduce pixel occupancy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out &gt;20 times per t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umn parallel read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PCCD (LCFI grou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PS (Strasburg grou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gt;50 MHz readout spe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sible RF pick-up probl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og registers on pixel (Readout between trai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PS (RAL group): CMOS pixel with regist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IS (LCFI group): Small CCD registers on pix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licated design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osaic of small seg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sible RF pick-up problem for FA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&gt;20 times finer pixels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new idea: </a:t>
            </a:r>
            <a:r>
              <a:rPr b="0" lang="en-US" sz="2600" spc="-1" strike="noStrike" u="sng">
                <a:solidFill>
                  <a:srgbClr val="00b400"/>
                </a:solidFill>
                <a:uFillTx/>
                <a:latin typeface="Arial"/>
              </a:rPr>
              <a:t>Fine Pixel C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ign concept of FPC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ixel size: 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500" spc="-1" strike="noStrike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</a:rPr>
              <a:t>m squa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Accumulate 2820 BX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500" spc="-1" strike="noStrike">
                <a:solidFill>
                  <a:srgbClr val="00b400"/>
                </a:solidFill>
                <a:latin typeface="Arial"/>
              </a:rPr>
              <a:t>readout between trai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ff"/>
                </a:solidFill>
                <a:latin typeface="Arial"/>
              </a:rPr>
              <a:t>Fully deplete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o suppress diffusion and reduce hit pixe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400"/>
                </a:solidFill>
                <a:latin typeface="Arial"/>
              </a:rPr>
              <a:t>Pixel Occupancy &lt; 0.5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t R=20mm and B=3T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ccept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lti-port readout to reduce readout time and increase radiation immun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Operation at low temperatur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&lt; -70 C) to suppress dark current accumulated in readout cycle time of 200m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llenges of FPC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Pixel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racking ef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hin wa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Lorentz ang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Readout electron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Radiation hard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llenges of FPC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Pixel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Our target (5</a:t>
            </a:r>
            <a:r>
              <a:rPr b="0" lang="ja-JP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) is not extraord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 pixel CCDs are  used for mobile ph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ja-JP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 pixel CCDs will be available soon for the digital camera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Although requirement for the performance is different from each other, 5</a:t>
            </a:r>
            <a:r>
              <a:rPr b="0" lang="ja-JP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 pixel size seems quite feasib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Problem is “who WILL make it 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llenges of FPC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Tracking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Pixel occupancy ~0.5%, but hit density is ~40/mm</a:t>
            </a:r>
            <a:r>
              <a:rPr b="0" lang="ja-JP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Large number of background hits may cause tracking inefficiency: mis-identification of signal hit with background h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3529080" cy="2744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076720" y="4508640"/>
                <a:ext cx="26542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157720" y="4941720"/>
            <a:ext cx="3022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ackground hit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ultiple scattering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30520" y="422100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normal incident tra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7640" y="5661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 and momentu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148360" y="5950080"/>
                <a:ext cx="1944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s</m:t>
                        </m:r>
                      </m:sub>
                    </m:sSub>
                    <m:r>
                      <m:t xml:space="preserve">∝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6985080" cy="49356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llenges of FPC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cking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11640" y="602136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914760" y="393120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Arial"/>
              </a:rPr>
              <a:t>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91920" y="364500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10mm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40/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7560" y="5373720"/>
            <a:ext cx="21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2mm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40/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94840" y="47242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10mm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/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393372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03640" y="5013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724360" y="5300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6960" y="2421000"/>
            <a:ext cx="526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s-identification Probability (p=1 GeV/c,t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S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=50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llenges of FPC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cking efficiency: Background rej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ground particles have much lower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n signal tra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can expect background rejection by hit cluster sha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PCCD has tracking capability with only one lay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3549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11:18:55Z</dcterms:created>
  <dc:creator>sugimoto</dc:creator>
  <dc:description/>
  <dc:language>en-US</dc:language>
  <cp:lastModifiedBy>sugimoto</cp:lastModifiedBy>
  <dcterms:modified xsi:type="dcterms:W3CDTF">2004-11-03T11:19:52Z</dcterms:modified>
  <cp:revision>30</cp:revision>
  <dc:subject/>
  <dc:title>Vertex Detector for ILC</dc:title>
</cp:coreProperties>
</file>