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11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021-CC4C-4C2F-9405-FB9CA986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28F-B330-4368-B644-8307092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3A1-9651-4DE3-AD8E-BD3099FE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9F4-A467-4A29-8A49-B6E75A48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F2B5-3CB2-4AD0-9E72-CC83C4E0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EB85-8731-4992-8721-493BB99E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0F10-E924-48C0-BF60-0FE094FD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F435-B792-4755-9613-F36E4D4A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1E34-F1EF-4DFE-917D-54EC47AC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2C2E-F515-4B7B-9E30-E1B1DD40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83F-D567-4510-BA66-F156F5A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275-439B-40F6-A1CA-1BD9AB85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55F-EE9B-43B4-89CF-CA9C970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B425-F790-4AC1-8116-1E598002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0CAC-1086-4DA0-BD15-035210C5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39EF-A081-4270-8116-8D23C208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C0A-CBC8-4568-AEFD-A46298E7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158-1A0B-4511-9BE4-19B58A5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1FE-BA6F-4710-8717-E08705B5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60D-E160-4233-A88E-E37A0D58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AA4-17CB-4DD8-92B0-47AEBE21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1CF-095A-458D-853A-04FFC1E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08E-64AC-4C9D-BC57-55D1CD79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C88-2AA1-4340-BAB8-E559E671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3B0-B904-4071-9A05-C46D76F9FD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A22-15F7-4F97-A699-2F6C900618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tatus of CCD Vertex Detector R&amp;D for GL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Yasuhiro Sugim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K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EK/Niigata/Tohoku/Toyama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ACFA WS,Mumbai, Dec. 16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7D8-4046-409D-8771-FDF6645957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udy of radiation toler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NIEL Hypo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lk damage is thought to be proportional to non-ionizing energy loss (N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EL of electrons has strong energy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pair background hitting the inner-most layer of VTX at LC peaks at ~20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igh energy electron beam irradiation 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EL of neutrons is ~x10 than that of H.E. electrons, but expected b.g. rate is 1/100~1/1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t so se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18D-D2BC-418D-91FA-BC5AA538FE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udy of radiation toler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2338560"/>
            <a:ext cx="6049800" cy="3727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8000" y="2133720"/>
            <a:ext cx="1224000" cy="142920"/>
          </a:xfrm>
          <a:prstGeom prst="leftRightArrow">
            <a:avLst>
              <a:gd name="adj1" fmla="val 50000"/>
              <a:gd name="adj2" fmla="val 1704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18446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4160" y="1844640"/>
            <a:ext cx="81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GLC b.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133720"/>
            <a:ext cx="1079280" cy="142920"/>
          </a:xfrm>
          <a:prstGeom prst="leftRightArrow">
            <a:avLst>
              <a:gd name="adj1" fmla="val 50000"/>
              <a:gd name="adj2" fmla="val 150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CB0-8A2C-4839-B3D9-3F987B951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ctron Damage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8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est Sample CC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56x256 pix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ade by Hamamat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Readout Freq : 250k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Readout Cycle : 2 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Irradi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At room tempera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ithout bias/clo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r-90: 0.6, 1.0, 2.0 x 10</a:t>
            </a:r>
            <a:r>
              <a:rPr b="0" lang="ja-JP" sz="21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ja-JP" sz="2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150 MeV beam: 0.5, 1.0, 2.0, 5.0 x 10</a:t>
            </a:r>
            <a:r>
              <a:rPr b="0" lang="ja-JP" sz="21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ja-JP" sz="2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3035160" cy="30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300-4653-4662-B612-C239E8ED6A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ctron Damage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 of CCD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rk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rious dark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t-band voltage shi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ge transfer inefficiency (C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157-DEE7-4D1F-BF61-3977591D91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ctron Damage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6913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Hot Pix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Observed only in beam-irradiated CC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Presumably due to cluster defects which cannot be created by low energy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00680" y="4000680"/>
            <a:ext cx="3531960" cy="2130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9560" y="4000680"/>
            <a:ext cx="3532320" cy="2130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74360" y="4581360"/>
            <a:ext cx="134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00920" y="415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46160" y="4292640"/>
            <a:ext cx="201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MeV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Ir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4360" y="364500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t +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 Cycle time: 2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062-952E-473E-8FB3-F2D6631432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ctron Damage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6100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ge Transfer Inefficiency (C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from position dependence of Fe-55 X-ray(5.9keV)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induced by 150MeV beam is x2~3 larger than  Sr-90 induced C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suppression by fat-zero charge injection was observ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140360" y="2492280"/>
            <a:ext cx="4752720" cy="3327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95240" y="2637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5240" y="3068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2781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020000" y="28522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068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200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20000" y="3213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31A-D7FE-498A-9774-26BAA3BDC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ctron Damage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556680" cy="44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154-E98D-4C3F-9796-5070274702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ctron Damage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85920" y="1719360"/>
            <a:ext cx="65721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7DF-66E7-4C63-A0A4-40DF2B4EB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ctron Damage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I impr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ch channel :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t-zero charge inj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 readout sp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de vertical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tion of # of trans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ort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859280" y="2254320"/>
            <a:ext cx="3827520" cy="35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A17-8041-43CD-A488-1093B36D61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udy of charge spread in 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619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ffusion of electrons in epitaxi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y of excellent spatial resolution for CCD ( and CMOS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akes time to diffus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w long do we have to wait for the charge colle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asuremen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R LASER pul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932360" y="2484360"/>
            <a:ext cx="3754440" cy="311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95A-007C-4A7E-9AB9-2977494356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&amp;D for thin w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of radiation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ed beam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 damage study -- H.E. beam/beta 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of charg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design of Vertex Detector for G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nd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FB3-63A4-4D13-90D2-BC3131629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ible design of the CCD vertex detector for G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4020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&gt;100MHz speed is needed for 6.3ms read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port 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de vertical clock cannot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thread 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mum in terms of radiation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&amp;D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932360" y="2068560"/>
            <a:ext cx="3754440" cy="370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F07-3894-4911-BE87-18FA805506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ible design of the CCD vertex detector for G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Baseline desig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=24, 36, 48, 6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|co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| &lt; 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fer thickness = 300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 = 3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=  7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20/(p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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R&amp;D milest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24, 36, 48, 6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|co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| &lt; 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fer thickness =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/(p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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4A9-D62C-4B94-BD6F-851721A02B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ible design of the CCD vertex detector for G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xpected signal loss by C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ssume 32(V)x2000(H) pixels at R=15mm, B=4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easured CTI: 3x10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(V), &lt;5x10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(H) for 1x10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/cm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@-70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 w/o fat-zero charge inj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imulated pair b.g. in 1 year (10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):  1.5x10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/cm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ignal loss: 1.5% (V),  &lt; 15% (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With notch channel: 0.5% (V), &lt; 5% (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Fat-zero charge injection, wider V-clock, faster H-clock will improve the CTI still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ven room temperature operation might be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52B-853E-482E-B731-B632831246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and outlo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R&amp;D status for CCD vertex detector for GLC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tudy of partially thinned wafer: Sample wafers ord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Radiation damage study: 150MeV beam irradiation test was carried out, and we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Hot pixel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x2~3 larger CTI than </a:t>
            </a:r>
            <a:r>
              <a:rPr b="0" lang="ja-JP" sz="23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r irradiated CC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CTI suppression by fat-zero charge inj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Charge spread in CCDs is being studi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A58-4F63-4BCF-8768-2EED2DB0AA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and outlook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 the present R&amp;D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mize the design of partially thinned wa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TI study as a function of clock width, speed, and amplitu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 the feasibility of  Multi-thread CCD and try to make the prototype CCD + readout 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219-384A-481F-BDD3-ED974BF799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C Det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17440" y="1719360"/>
            <a:ext cx="690732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0AD-2EB7-4078-A91B-FCD9D07CB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C Det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esig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O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ex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CCD or C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 Tra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on Strip De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Tra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Cha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enoid 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ori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/Sci (Tile-Fib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C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X’ing Ang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D70-1A7C-48B1-9673-E9EEAF260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et the excellent vertex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spatial resolution of the sen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 material to minimize the multiple scat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the detector as close to the IP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diation toler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cellent resolution by charge sharing 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 3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nsitive layer ~2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, Mechanical Strengt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t clear. Need R&amp;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&amp;D item : Readout Sp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D: simple structur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arge size wafer with high y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986-4875-4A94-85FE-653CFB5E63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&amp;D for thin waf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tructure of 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p+ substrate : ~300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pitaxial p layer : ~20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n layer : few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We need only ~20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harged particle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805040"/>
            <a:ext cx="403848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E3E-B2ED-4FB0-B09C-61A0D26226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&amp;D for thin waf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898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upport thin waf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al thin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rge area thinning brings non-flat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dered several wafers with different cell siz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im average thickness &lt; 100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389040" cy="238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27640" y="4437000"/>
            <a:ext cx="3467160" cy="17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92E-1177-4C92-88AF-07856EA272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udy of radiation toler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xpected Beam Background at G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Neutron :  Mainly from downstream of the beamline                     10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/cm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y (depends on beam line desig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lectron/Positron : Pair background through beam-beam interaction -- Strongly depends on  B and 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3860640"/>
          <a:ext cx="7345440" cy="222084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  <a:gridCol w="1836720"/>
                <a:gridCol w="1835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=3T, R=24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=3T, R=1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=4T, R=1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s/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/m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s/y (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/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66A-C370-4E27-B5B2-9D2A9F351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udy of radiation toler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Damage in CC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urface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dE/dx in SiO</a:t>
            </a:r>
            <a:r>
              <a:rPr b="0" lang="ja-JP" sz="23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rface dark 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t-band voltage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ulk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Lattice dislocation in Si bulk </a:t>
            </a:r>
            <a:r>
              <a:rPr b="0" lang="ja-JP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lk dark 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ge transfer inefficiency (CTI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Trap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of CCD Vertex Detector R&amp;D for GL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286-E878-4971-9D55-BAB377CD4C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1:23:39Z</dcterms:created>
  <dc:creator>Sugimoto</dc:creator>
  <dc:description/>
  <dc:language>en-US</dc:language>
  <cp:lastModifiedBy>sugimoto</cp:lastModifiedBy>
  <dcterms:modified xsi:type="dcterms:W3CDTF">2003-12-11T08:31:54Z</dcterms:modified>
  <cp:revision>55</cp:revision>
  <dc:subject/>
  <dc:title>Vertex Detector for GLC</dc:title>
</cp:coreProperties>
</file>