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83C-1E5A-4213-B524-68CD170C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141-11BD-4D75-885F-36D10E20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C58-D8BC-4991-8AF2-14B5618F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390-7B07-4E4B-AB3A-94B22BF8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400F-892D-4C49-AAF5-60A11379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0B02-768C-407E-BB04-E6AB48F3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2A79-2C9F-4D80-9A40-1D31A304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990E-648B-4FC9-8D3D-349A79CB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6CF4-DEEB-45DE-BF32-33C3200E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234A-5493-4D96-85C0-A086B005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A458-6766-4522-93E5-B9E53C83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3DB-0B63-415D-B984-BE56F9E7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9CF6-2E10-4342-85B2-9739EBE1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4EBF-F755-4321-B8CB-3036CF76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9248-8BD0-4A55-BAAC-29DDB48C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E46C-ED8A-41CA-B5C4-BE8E14AC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A763-C9C1-42D0-9D9D-3085ADF4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63D-A8A9-407E-9B0F-ED601A30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0C1-2053-47D6-9B01-F7B1E139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A82-EF20-4A30-A4A8-68460697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4FB-FA8E-4B56-8B3F-41ED8A89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22F-798C-4600-A479-986D8113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E7F-0063-44C6-A9D4-E9FA566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A34-B011-4A1B-8088-D8C99D65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6FC3-E8C8-43ED-9B97-6E119839F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2414-A4E7-45C4-AD6B-3C2A20F18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FPCCD Vertex Detector for ILC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suhiro Sugim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TILC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07880" y="4503600"/>
            <a:ext cx="322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of FPCCD V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CCD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TX inner rad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99A3-08E8-463D-ADCA-6378046CAF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racteristics of Prototyp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6200" y="1341000"/>
            <a:ext cx="78598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liminary results given by HP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58920" y="2133720"/>
          <a:ext cx="7423200" cy="1674720"/>
        </p:xfrm>
        <a:graphic>
          <a:graphicData uri="http://schemas.openxmlformats.org/drawingml/2006/table">
            <a:tbl>
              <a:tblPr/>
              <a:tblGrid>
                <a:gridCol w="3168720"/>
                <a:gridCol w="1063440"/>
                <a:gridCol w="1063800"/>
                <a:gridCol w="1063440"/>
                <a:gridCol w="1063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e c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 thickness (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-register gate capacitance (p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-register gate capacitance (p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source capacitance (p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58920" y="4149720"/>
          <a:ext cx="7416720" cy="1674720"/>
        </p:xfrm>
        <a:graphic>
          <a:graphicData uri="http://schemas.openxmlformats.org/drawingml/2006/table">
            <a:tbl>
              <a:tblPr/>
              <a:tblGrid>
                <a:gridCol w="1873080"/>
                <a:gridCol w="1295640"/>
                <a:gridCol w="707760"/>
                <a:gridCol w="708120"/>
                <a:gridCol w="708120"/>
                <a:gridCol w="708120"/>
                <a:gridCol w="707760"/>
                <a:gridCol w="7081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gain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/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:1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:24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(m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:15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:24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3369960" y="5877000"/>
            <a:ext cx="339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V,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MHz,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D09-582D-41FA-84E7-B2192667D4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073320" cy="2855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udy on inner radi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123560"/>
            <a:ext cx="5472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able clearance between pair-background core and beam pipe, and between beam pipe and ladder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26920" y="5157720"/>
          <a:ext cx="4465800" cy="941400"/>
        </p:xfrm>
        <a:graphic>
          <a:graphicData uri="http://schemas.openxmlformats.org/drawingml/2006/table">
            <a:tbl>
              <a:tblPr/>
              <a:tblGrid>
                <a:gridCol w="647640"/>
                <a:gridCol w="1152720"/>
                <a:gridCol w="852480"/>
                <a:gridCol w="904680"/>
                <a:gridCol w="90828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ja-JP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M 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6303960" y="206064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by C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3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6237360"/>
            <a:ext cx="41054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ong dependence on machine parame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2739960"/>
          <a:ext cx="4753080" cy="18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739960"/>
                    <a:ext cx="475308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84360" y="4653000"/>
            <a:ext cx="410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1=2mm, G2=4mm, L1=5mm, L2=20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580000" y="5084640"/>
          <a:ext cx="2737080" cy="1244880"/>
        </p:xfrm>
        <a:graphic>
          <a:graphicData uri="http://schemas.openxmlformats.org/drawingml/2006/table">
            <a:tbl>
              <a:tblPr/>
              <a:tblGrid>
                <a:gridCol w="647640"/>
                <a:gridCol w="1044720"/>
                <a:gridCol w="10447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511240" y="472428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00GeV Nomi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B82-E96D-4A48-A027-E82F536F94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and outloo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he first prototype FPCCDs have been made by HPK and will be delivered so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ixel size: 12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-register same size as pixels in imag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ch/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veral types of output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wo different epitaxial layer thickness (15 / 24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wo different gate oxide thickness for output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Detailed study on the prototype FPCCDs will be done in FY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Radius of innermost layer Rin of VTX was studied for 3, 3.5, and 4T magnetic field, and Rin=17.5, 16, and 15 mm are proposed, respective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ABB-2DA6-4806-BED6-A1FEDD3454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ckup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57D-641E-49C3-91A5-6D58D80D2E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labo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K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A. Miyamoto, K. Nakayoshi, Y. Sugimo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JAXA/IS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H. Ike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ohoku Un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. Nagamine, Y. Takubo, H. Yamamo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ohoku Gakuin Un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. A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906-46C5-44D8-8045-C45CC1446C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PCCD VT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ertex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wo CCD layers make a ladder in order to make mini-vector of tracks and reject pair-background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 ladders make the vertex 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peration at ~-50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dders are confined in a cryo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gular cover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|cos</a:t>
            </a:r>
            <a:r>
              <a:rPr b="0" lang="ja-JP" sz="1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|&lt;0.95 with inner 4 lay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|cos</a:t>
            </a:r>
            <a:r>
              <a:rPr b="0" lang="ja-JP" sz="1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|&lt;0.9 with all 6 layer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35280" y="4508640"/>
          <a:ext cx="568800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508640"/>
                    <a:ext cx="568800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016-9BDD-47F8-998D-BA7B60A69E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concep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65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ir background at small 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5000 hits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rain with B=3T and R=20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occupancy ~10% for 2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ixel (several pixels are fired for one track h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keep the occupancy small (&lt;1%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out 20 times per train (1ms)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times finer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4221000"/>
            <a:ext cx="396072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 Pixel CCD (FPC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AA1-5AB1-412B-AC32-D57A77CCAD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tages of FPCCD VT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Completely free from beam-induced RF noise (E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Excellent spatial resolution of </a:t>
            </a: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~1.4</a:t>
            </a:r>
            <a:r>
              <a:rPr b="0" lang="ja-JP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 even with digital read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Excellent two-track separation capability because of fine pixels and fully depleted epitaxial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Capability of low-energy pair-background rejection by making use of hit-cluster sha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imple structure which enables large wafer size with high yield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No heat source in the image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No need for very high readout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EB1-C4CC-49DD-A30C-B04B32DF03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hematic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6560" y="1483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nsor and 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~5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 square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ulti-port readout to reduce readout time (&lt;200ms) with moderate readout speed (~10Mpixels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mall number of V-shift and large number of H-shift to reduce effect of radiation damage (C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5 – 20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 thick fully depleted epitaxial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26920" y="4422600"/>
          <a:ext cx="741708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22600"/>
                    <a:ext cx="741708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74C-E222-4D76-8AEC-1929A3C5F8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&amp;D for FPCCD sens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Challenges of FPCC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Small pixel size ~5 </a:t>
            </a:r>
            <a:r>
              <a:rPr b="0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ff"/>
                </a:solidFill>
                <a:latin typeface="Arial"/>
              </a:rPr>
              <a:t>Readout speed &gt; 10 MH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ff"/>
                </a:solidFill>
                <a:latin typeface="Arial"/>
              </a:rPr>
              <a:t>Noise &lt; 50 electrons (preferably &lt;30 electr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ff"/>
                </a:solidFill>
                <a:latin typeface="Arial"/>
              </a:rPr>
              <a:t>Power consumption &lt; 10 mW/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ff"/>
                </a:solidFill>
                <a:latin typeface="Arial"/>
              </a:rPr>
              <a:t>Horizontal register (same size as pixel) in the image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Wafer thickness ~50 </a:t>
            </a:r>
            <a:r>
              <a:rPr b="0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9900"/>
                </a:solidFill>
                <a:latin typeface="Arial"/>
              </a:rPr>
              <a:t>Multi-channel low power readout ASIC </a:t>
            </a:r>
            <a:r>
              <a:rPr b="0" lang="ja-JP" sz="2200" spc="-1" strike="noStrike">
                <a:solidFill>
                  <a:srgbClr val="009900"/>
                </a:solidFill>
                <a:latin typeface="Wingdings"/>
                <a:ea typeface="Wingdings"/>
              </a:rPr>
              <a:t></a:t>
            </a:r>
            <a:r>
              <a:rPr b="0" lang="ja-JP" sz="2200" spc="-1" strike="noStrike">
                <a:solidFill>
                  <a:srgbClr val="009900"/>
                </a:solidFill>
                <a:latin typeface="Arial"/>
              </a:rPr>
              <a:t> Takubo’s 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Prototype sensor in FY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Tackle issues 2, 3, 4, and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F7F-2EF5-449D-9025-6D285E8563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totype of FPCC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6831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pixel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2x512 pix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1x6.1 m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mage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ch /c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8(V)x512(H) pixels for each cha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ral different designs of output a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ps have been made and are being tested by HP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delivered in few wee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4176720" cy="3824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40360" y="5805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8360" y="1844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6160" y="5877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2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8099280" y="3573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037-FD1C-4110-965D-8618142479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ypes of Prototyp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Output amp: type A –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Process / Device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Wafer: epitaxial layer 24 / 15 </a:t>
            </a:r>
            <a:r>
              <a:rPr b="0" lang="ja-JP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Gate SiO</a:t>
            </a:r>
            <a:r>
              <a:rPr b="0" lang="ja-JP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for output Tr: standard (all) / thin (CP204, 2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Device type: package / bare c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553440" cy="281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050-1830-4DA3-8BC8-55A03487E6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ckaged and bare chip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5041800" cy="3864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3384360" cy="30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2E6-5E0A-4CC8-9933-2E53F7C188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put am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6200" y="1196640"/>
            <a:ext cx="4038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456000" cy="1701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140360" y="1773360"/>
            <a:ext cx="4479840" cy="166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2700360" y="3573360"/>
          <a:ext cx="5905440" cy="2676600"/>
        </p:xfrm>
        <a:graphic>
          <a:graphicData uri="http://schemas.openxmlformats.org/drawingml/2006/table">
            <a:tbl>
              <a:tblPr/>
              <a:tblGrid>
                <a:gridCol w="893880"/>
                <a:gridCol w="984240"/>
                <a:gridCol w="1341360"/>
                <a:gridCol w="2685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-Typ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2-Typ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-Typ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-Typ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-Typ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2-Typ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-Typ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-Typ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-Type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2-Typ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-Type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1 &gt; Type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drain curr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1 &gt; Type2 &gt; Type3 &gt; Type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drain current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D84-6F3F-41AC-BD69-95F774EE0C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4:27:59Z</dcterms:created>
  <dc:creator>Sugimoto</dc:creator>
  <dc:description/>
  <dc:language>en-US</dc:language>
  <cp:lastModifiedBy>sugimoto</cp:lastModifiedBy>
  <dcterms:modified xsi:type="dcterms:W3CDTF">2008-03-04T15:12:56Z</dcterms:modified>
  <cp:revision>24</cp:revision>
  <dc:subject/>
  <dc:title>FPCCD Vertex Detector R&amp;D for ILC</dc:title>
</cp:coreProperties>
</file>